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6769-5992-4560-AE8F-3FF50E8D802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B693-D74A-4787-9B41-658C1CBE64F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53DE-898E-45C3-9229-F59CEADD19C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A532-9F85-4081-B84D-973DB7DA1DE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3C4E-E8FC-4D89-ACD1-1624F3535D3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7608-5209-4F8D-9066-4C0F66DCB86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D167-BFAD-4768-87B1-83C8EAC2B82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F280-8F0E-4614-8905-90572682725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AC73-91D4-4308-9956-D823A818928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002B-032F-41F9-8186-9E972E7CFF7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E67D-0B08-44F3-B20F-E1FE71C9070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13F1-539A-45DE-B068-0F51C46F866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1844-0223-4A86-AD12-BD2941434B6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E8C-DBD8-4FD7-9E25-96DA1828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C40D-410B-4E98-832A-D1FCBBE8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F64-8DFA-424F-A7C9-37D0BE33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8A31-6E7C-4F01-B389-12295C04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30F-8741-4851-A1D6-E687D2BA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2DA7-BCD3-4A14-8998-055C1468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49C-3B65-4EBC-BEEC-8DDC04EC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92C3-CC9D-4B64-A41A-D7301989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48E3-598C-4365-86A2-E532F34E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0310-24EE-4D9E-B9B0-9632FFA3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6D6D-6534-4734-89D6-D82506AD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C16-0800-41F5-8C0C-19656DD2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7472-578F-4552-85CE-4E6271727D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472428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Školení pro pracovníky realizující individuální přípravu zájemců o nové formy pěstounské péč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029200" cy="1497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132000" y="1844640"/>
            <a:ext cx="24289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1628280"/>
            <a:ext cx="8642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yriad Web"/>
              </a:rPr>
              <a:t>Standardy pěstounských služeb</a:t>
            </a:r>
            <a:br>
              <a:rPr sz="1600"/>
            </a:br>
            <a:br>
              <a:rPr sz="1600"/>
            </a:br>
            <a:r>
              <a:rPr b="1" lang="en-US" sz="2400" spc="-1" strike="noStrike">
                <a:solidFill>
                  <a:srgbClr val="000000"/>
                </a:solidFill>
                <a:latin typeface="Myriad Web"/>
              </a:rPr>
              <a:t>4 pilíře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Myriad Web"/>
              </a:rPr>
              <a:t>Péče o dět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Myriad Web"/>
              </a:rPr>
              <a:t>Zajištění bezpečného a láskyplného prostředí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Myriad Web"/>
              </a:rPr>
              <a:t>Týmová spoluprá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Myriad Web"/>
              </a:rPr>
              <a:t>Vlastní rozvoj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903760" cy="863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-1981080" y="6032520"/>
            <a:ext cx="10744200" cy="673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1457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éče o dě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7120" y="1341000"/>
            <a:ext cx="846288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chopnost poskytnout dětem dobrou péči, a podporovat tak jejich zdravý emocionální, fyzický, sexuální a intelektuální výv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chopnost přijmout konkrétní dít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chopnost poskytovat péči vhodnou pro konkrétní dítě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chopnost úzce spolupracovat s rodinami dětí a dalšími osobami důležitými pro dě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chopnost vymezit náležité hranice a vypořádat se s chováním dětí v rámci těchto hranic bez použití fyzických trestů nebo jiných nepřijatelných postupů či jiného nevhodného ch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vědomí o normálním vývoji dětí a schopnost naslouchat jim a komunikovat s nimi způsobem odpovídajícím jejich věku a způsobu cháp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chopnost podpořit vývoj mladého člověka směrem k dospěl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380880" y="658188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618a"/>
                </a:solidFill>
                <a:latin typeface="Arial"/>
                <a:ea typeface="Arial"/>
              </a:rPr>
              <a:t>© British Agencies for Adoption and Fostering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ajištění bezpečného a láskyplného prostřed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Schopnost zajistit, aby byla dětem poskytována péče v domově, ve kterém jsou v bezpečí a kde jim nehrozí fyzická újma či zneužití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Schopnost pomáhat dětem s tím, aby se o sebe samy dovedly postarat a ochránit se před újmou či zneužitím, a naučit je, jak si přivolat pomoc v případě, že jejich bezpečnost je ohrožen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Schopnost rozpoznat u postižených dětí, že by jim mohlo hrozit riziko zneužití nebo diskrimin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80880" y="658188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618a"/>
                </a:solidFill>
                <a:latin typeface="Arial"/>
                <a:ea typeface="Arial"/>
              </a:rPr>
              <a:t>© British Agencies for Adoption and Fostering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ýmová spoluprá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Schopnost spolupracovat s dalšími odbornými pracovníky a podílet se na plánování rozvoje dítěte/ dívky či chlap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Schopnost komunikovat efektivn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Schopnost zachovávat důvěrnost informací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Schopnost prosazovat rovnost, různorodost a práva jednotlivců a skupin ve společnost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80880" y="658188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618a"/>
                </a:solidFill>
                <a:latin typeface="Arial"/>
                <a:ea typeface="Arial"/>
              </a:rPr>
              <a:t>© British Agencies for Adoption and Fostering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lastní rozvo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4.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Schopnost ocenit, jak osobní zkušenosti ovlivňují zájemce samotného a jeho rodinu, a rozpoznat vliv, jaký bude zřejmě poskytování pěstounské péče mít na celou rodin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4.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Schopnost požádat o pomoc či spolupráci a využít k tomu vztahy s lidmi v místě, kde zájemce žij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4.3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Schopnost využívat příležitosti k dalšímu vzdělávání se a zdokonalování dovedností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4.4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Schopnost udržovat pozitivní vztahy a fungovat efektivně i v náročných období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80880" y="658188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618a"/>
                </a:solidFill>
                <a:latin typeface="Arial"/>
                <a:ea typeface="Arial"/>
              </a:rPr>
              <a:t>© British Agencies for Adoption and Fostering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628280"/>
            <a:ext cx="8642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0000"/>
                </a:solidFill>
                <a:latin typeface="Myriad Web"/>
              </a:rPr>
              <a:t>Zpráva o zájemci o pěstounství</a:t>
            </a:r>
            <a:br>
              <a:rPr sz="1400"/>
            </a:br>
            <a:br>
              <a:rPr sz="1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troj ke shromaždování informací o schopnostech a dovednostech zájemce a o jeho potenciálu poskytovat pěstounskou péč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k předkládání doporučení týkajících se vhodnosti zájemce na základě vyhodnocení shromážděných informací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975040" cy="885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-1981080" y="6032520"/>
            <a:ext cx="10744200" cy="673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457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628280"/>
            <a:ext cx="8642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Myriad Web"/>
              </a:rPr>
              <a:t>Zpráva o zájemci o pěstounství</a:t>
            </a:r>
            <a:br>
              <a:rPr sz="1400"/>
            </a:br>
            <a:br>
              <a:rPr sz="1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Souhrnný přehled pro osoby provádějící výběr pěstounů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Část A - Faktické informace o žádosti a zájemcích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Část B - Kvalitativní informace, hodnocení a doporučení týkající se vhodnosti zájemců pro účely poskytování pěstounské péč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975040" cy="885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1981080" y="6032520"/>
            <a:ext cx="10744200" cy="673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457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628280"/>
            <a:ext cx="8642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cc0000"/>
                </a:solidFill>
                <a:latin typeface="Myriad Web"/>
              </a:rPr>
              <a:t>	</a:t>
            </a:r>
            <a:r>
              <a:rPr b="1" lang="cs-CZ" sz="2700" spc="-1" strike="noStrike">
                <a:solidFill>
                  <a:srgbClr val="cc0000"/>
                </a:solidFill>
                <a:latin typeface="Myriad Web"/>
              </a:rPr>
              <a:t>	</a:t>
            </a:r>
            <a:r>
              <a:rPr b="1" lang="cs-CZ" sz="2700" spc="-1" strike="noStrike">
                <a:solidFill>
                  <a:srgbClr val="cc0000"/>
                </a:solidFill>
                <a:latin typeface="Myriad Web"/>
              </a:rPr>
              <a:t>Zpráva o zájemci o pěstounství</a:t>
            </a:r>
            <a:br>
              <a:rPr sz="14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. Část C </a:t>
            </a:r>
            <a:br>
              <a:rPr sz="18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alší zprávy a podklady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odokmen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2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Ekomapa 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3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asové sledy událostí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4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říprava zájemce/zájemců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5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roces hodnocení přípravy v domácnosti zájemce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6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práva obvodního lékaře o zdravotním stavu zájemce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7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tanovisko obecního úřadu obce s rozšířenou působností k žádosti o zprostředkování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ěstounské péče 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8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nformace od vzdělávacích institucí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9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Lékařský posudek 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10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nformace od předchozích partnerů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11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jištění a postřehy dalších osob, které žijí v domácnosti zájemce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12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ouhrnné informace od každé z osob, která poskytla údaje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13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oznámky zájemce ke zprávě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14-C16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alší podkl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975040" cy="885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-1981080" y="6032520"/>
            <a:ext cx="10744200" cy="673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457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628280"/>
            <a:ext cx="8642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0000"/>
                </a:solidFill>
                <a:latin typeface="Myriad Web"/>
              </a:rPr>
              <a:t>	</a:t>
            </a:r>
            <a:r>
              <a:rPr b="1" lang="cs-CZ" sz="2800" spc="-1" strike="noStrike">
                <a:solidFill>
                  <a:srgbClr val="cc0000"/>
                </a:solidFill>
                <a:latin typeface="Myriad Web"/>
              </a:rPr>
              <a:t>	</a:t>
            </a:r>
            <a:r>
              <a:rPr b="1" lang="cs-CZ" sz="2800" spc="-1" strike="noStrike">
                <a:solidFill>
                  <a:srgbClr val="cc0000"/>
                </a:solidFill>
                <a:latin typeface="Myriad Web"/>
              </a:rPr>
              <a:t>Zpráva o zájemci o pěstounství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5. Část D – zrušena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6. Část E - Hodnocení způsobilosti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7. Část F - Osobní plán odborného rozvoje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8. Pomocné poznámky, Symboly používané v rodokmenu a ekomapách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975040" cy="885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-1981080" y="6032520"/>
            <a:ext cx="10744200" cy="673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457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7620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ástroje používané při hodnoc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001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ogra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 (rodokmen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dinné primární a sekundární systé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dinné scénář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ulturní a generační vz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zorce rozdílnosti a závisl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kom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380880" y="658188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618a"/>
                </a:solidFill>
                <a:latin typeface="Arial"/>
                <a:ea typeface="Arial"/>
              </a:rPr>
              <a:t>© British Agencies for Adoption and Fostering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9200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 prezentaci jsou využity materiály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itish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socia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for Adoption and Fostering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 Amalthea o.s.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Šíření materiálů mimo projekt je podmíněno souhlasem BAAF a Amalthe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92720" y="333360"/>
            <a:ext cx="3373560" cy="100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17352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7620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9680" y="476280"/>
            <a:ext cx="82630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enogram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(rodokm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2600" y="1557000"/>
            <a:ext cx="792972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afické znázornění vztahů v rodi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izualizace vzorců, které si předávají jednotlivé generace, 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sychologi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ých faktorů, které mají na vztahy vl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dentifikování opakujících se vzorců chování a tendencí předávaných z generace na gener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ýchodisko při zkoumání všech aspektů hodnoc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80880" y="658188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618a"/>
                </a:solidFill>
                <a:latin typeface="Arial"/>
                <a:ea typeface="Arial"/>
              </a:rPr>
              <a:t>© British Agencies for Adoption and Fostering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7620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genogramu (rodokmenu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971640" y="1844280"/>
            <a:ext cx="7056360" cy="4646880"/>
            <a:chOff x="971640" y="1844280"/>
            <a:chExt cx="7056360" cy="4646880"/>
          </a:xfrm>
        </p:grpSpPr>
        <p:sp>
          <p:nvSpPr>
            <p:cNvPr id="137" name="AutoShape 4"/>
            <p:cNvSpPr/>
            <p:nvPr/>
          </p:nvSpPr>
          <p:spPr>
            <a:xfrm>
              <a:off x="971640" y="1844640"/>
              <a:ext cx="7056360" cy="46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4843440" y="4254120"/>
              <a:ext cx="2667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6"/>
            <p:cNvSpPr/>
            <p:nvPr/>
          </p:nvSpPr>
          <p:spPr>
            <a:xfrm flipH="1" flipV="1">
              <a:off x="2606760" y="2963160"/>
              <a:ext cx="720" cy="129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7"/>
            <p:cNvSpPr/>
            <p:nvPr/>
          </p:nvSpPr>
          <p:spPr>
            <a:xfrm flipV="1">
              <a:off x="6134400" y="2963160"/>
              <a:ext cx="720" cy="129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8"/>
            <p:cNvSpPr/>
            <p:nvPr/>
          </p:nvSpPr>
          <p:spPr>
            <a:xfrm>
              <a:off x="3897000" y="4254120"/>
              <a:ext cx="0" cy="15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>
              <a:off x="4843440" y="4254120"/>
              <a:ext cx="0" cy="15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0"/>
            <p:cNvSpPr/>
            <p:nvPr/>
          </p:nvSpPr>
          <p:spPr>
            <a:xfrm>
              <a:off x="2348640" y="4254120"/>
              <a:ext cx="720" cy="77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11"/>
            <p:cNvSpPr/>
            <p:nvPr/>
          </p:nvSpPr>
          <p:spPr>
            <a:xfrm>
              <a:off x="1572840" y="4254120"/>
              <a:ext cx="0" cy="688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2"/>
            <p:cNvSpPr/>
            <p:nvPr/>
          </p:nvSpPr>
          <p:spPr>
            <a:xfrm>
              <a:off x="5359680" y="4254120"/>
              <a:ext cx="0" cy="60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6134400" y="4254120"/>
              <a:ext cx="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>
              <a:off x="7511760" y="4254120"/>
              <a:ext cx="0" cy="60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5"/>
            <p:cNvSpPr/>
            <p:nvPr/>
          </p:nvSpPr>
          <p:spPr>
            <a:xfrm>
              <a:off x="2004480" y="2963160"/>
              <a:ext cx="12052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16"/>
            <p:cNvSpPr/>
            <p:nvPr/>
          </p:nvSpPr>
          <p:spPr>
            <a:xfrm>
              <a:off x="5360400" y="2963160"/>
              <a:ext cx="1290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7"/>
            <p:cNvSpPr/>
            <p:nvPr/>
          </p:nvSpPr>
          <p:spPr>
            <a:xfrm>
              <a:off x="1572840" y="2705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8"/>
            <p:cNvSpPr/>
            <p:nvPr/>
          </p:nvSpPr>
          <p:spPr>
            <a:xfrm>
              <a:off x="3467160" y="3049200"/>
              <a:ext cx="25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9"/>
            <p:cNvSpPr/>
            <p:nvPr/>
          </p:nvSpPr>
          <p:spPr>
            <a:xfrm>
              <a:off x="3897000" y="3049200"/>
              <a:ext cx="25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20"/>
            <p:cNvSpPr/>
            <p:nvPr/>
          </p:nvSpPr>
          <p:spPr>
            <a:xfrm flipV="1">
              <a:off x="3553560" y="2360880"/>
              <a:ext cx="0" cy="68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21"/>
            <p:cNvSpPr/>
            <p:nvPr/>
          </p:nvSpPr>
          <p:spPr>
            <a:xfrm>
              <a:off x="3036600" y="2361240"/>
              <a:ext cx="10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22"/>
            <p:cNvSpPr/>
            <p:nvPr/>
          </p:nvSpPr>
          <p:spPr>
            <a:xfrm flipV="1">
              <a:off x="3036600" y="2102400"/>
              <a:ext cx="0" cy="25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23"/>
            <p:cNvSpPr/>
            <p:nvPr/>
          </p:nvSpPr>
          <p:spPr>
            <a:xfrm flipV="1">
              <a:off x="4069440" y="2102400"/>
              <a:ext cx="0" cy="25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24"/>
            <p:cNvSpPr/>
            <p:nvPr/>
          </p:nvSpPr>
          <p:spPr>
            <a:xfrm>
              <a:off x="4500000" y="2704680"/>
              <a:ext cx="25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25"/>
            <p:cNvSpPr/>
            <p:nvPr/>
          </p:nvSpPr>
          <p:spPr>
            <a:xfrm>
              <a:off x="5016240" y="270468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26"/>
            <p:cNvSpPr/>
            <p:nvPr/>
          </p:nvSpPr>
          <p:spPr>
            <a:xfrm flipV="1">
              <a:off x="5102640" y="2274840"/>
              <a:ext cx="0" cy="42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4585680" y="2275200"/>
              <a:ext cx="94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28"/>
            <p:cNvSpPr/>
            <p:nvPr/>
          </p:nvSpPr>
          <p:spPr>
            <a:xfrm>
              <a:off x="4585680" y="2016720"/>
              <a:ext cx="0" cy="25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29"/>
            <p:cNvSpPr/>
            <p:nvPr/>
          </p:nvSpPr>
          <p:spPr>
            <a:xfrm>
              <a:off x="5532120" y="2016720"/>
              <a:ext cx="0" cy="25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30"/>
            <p:cNvSpPr/>
            <p:nvPr/>
          </p:nvSpPr>
          <p:spPr>
            <a:xfrm>
              <a:off x="6650640" y="2704680"/>
              <a:ext cx="68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31"/>
            <p:cNvSpPr/>
            <p:nvPr/>
          </p:nvSpPr>
          <p:spPr>
            <a:xfrm flipV="1">
              <a:off x="6994800" y="2274840"/>
              <a:ext cx="0" cy="42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32"/>
            <p:cNvSpPr/>
            <p:nvPr/>
          </p:nvSpPr>
          <p:spPr>
            <a:xfrm>
              <a:off x="6478920" y="2275200"/>
              <a:ext cx="10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33"/>
            <p:cNvSpPr/>
            <p:nvPr/>
          </p:nvSpPr>
          <p:spPr>
            <a:xfrm>
              <a:off x="6478920" y="2016720"/>
              <a:ext cx="0" cy="25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34"/>
            <p:cNvSpPr/>
            <p:nvPr/>
          </p:nvSpPr>
          <p:spPr>
            <a:xfrm>
              <a:off x="7511760" y="2016720"/>
              <a:ext cx="0" cy="25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35"/>
            <p:cNvSpPr/>
            <p:nvPr/>
          </p:nvSpPr>
          <p:spPr>
            <a:xfrm>
              <a:off x="7511760" y="2704680"/>
              <a:ext cx="25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36"/>
            <p:cNvSpPr/>
            <p:nvPr/>
          </p:nvSpPr>
          <p:spPr>
            <a:xfrm>
              <a:off x="1573560" y="3049200"/>
              <a:ext cx="17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37"/>
            <p:cNvSpPr/>
            <p:nvPr/>
          </p:nvSpPr>
          <p:spPr>
            <a:xfrm>
              <a:off x="1229400" y="3049200"/>
              <a:ext cx="17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38"/>
            <p:cNvSpPr/>
            <p:nvPr/>
          </p:nvSpPr>
          <p:spPr>
            <a:xfrm flipV="1">
              <a:off x="1315800" y="2446200"/>
              <a:ext cx="0" cy="60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39"/>
            <p:cNvSpPr/>
            <p:nvPr/>
          </p:nvSpPr>
          <p:spPr>
            <a:xfrm>
              <a:off x="1057680" y="2446200"/>
              <a:ext cx="111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40"/>
            <p:cNvSpPr/>
            <p:nvPr/>
          </p:nvSpPr>
          <p:spPr>
            <a:xfrm flipV="1">
              <a:off x="1057680" y="218844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41"/>
            <p:cNvSpPr/>
            <p:nvPr/>
          </p:nvSpPr>
          <p:spPr>
            <a:xfrm flipV="1">
              <a:off x="2176200" y="218844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42"/>
            <p:cNvSpPr/>
            <p:nvPr/>
          </p:nvSpPr>
          <p:spPr>
            <a:xfrm>
              <a:off x="971640" y="2016720"/>
              <a:ext cx="257760" cy="25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43"/>
            <p:cNvSpPr/>
            <p:nvPr/>
          </p:nvSpPr>
          <p:spPr>
            <a:xfrm>
              <a:off x="2864880" y="1930680"/>
              <a:ext cx="257760" cy="25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44"/>
            <p:cNvSpPr/>
            <p:nvPr/>
          </p:nvSpPr>
          <p:spPr>
            <a:xfrm>
              <a:off x="4413960" y="1844640"/>
              <a:ext cx="257760" cy="25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45"/>
            <p:cNvSpPr/>
            <p:nvPr/>
          </p:nvSpPr>
          <p:spPr>
            <a:xfrm>
              <a:off x="3638880" y="2963160"/>
              <a:ext cx="257760" cy="25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46"/>
            <p:cNvSpPr/>
            <p:nvPr/>
          </p:nvSpPr>
          <p:spPr>
            <a:xfrm>
              <a:off x="2778480" y="2532600"/>
              <a:ext cx="687600" cy="77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47"/>
            <p:cNvSpPr/>
            <p:nvPr/>
          </p:nvSpPr>
          <p:spPr>
            <a:xfrm>
              <a:off x="1315800" y="2963160"/>
              <a:ext cx="257760" cy="25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Oval 48"/>
            <p:cNvSpPr/>
            <p:nvPr/>
          </p:nvSpPr>
          <p:spPr>
            <a:xfrm>
              <a:off x="971640" y="2963160"/>
              <a:ext cx="257760" cy="25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49"/>
            <p:cNvSpPr/>
            <p:nvPr/>
          </p:nvSpPr>
          <p:spPr>
            <a:xfrm>
              <a:off x="6392520" y="1844640"/>
              <a:ext cx="344160" cy="25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50"/>
            <p:cNvSpPr/>
            <p:nvPr/>
          </p:nvSpPr>
          <p:spPr>
            <a:xfrm>
              <a:off x="1315800" y="4941720"/>
              <a:ext cx="602280" cy="60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51"/>
            <p:cNvSpPr/>
            <p:nvPr/>
          </p:nvSpPr>
          <p:spPr>
            <a:xfrm>
              <a:off x="6307200" y="2618640"/>
              <a:ext cx="774000" cy="60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Oval 52"/>
            <p:cNvSpPr/>
            <p:nvPr/>
          </p:nvSpPr>
          <p:spPr>
            <a:xfrm>
              <a:off x="7769880" y="2618640"/>
              <a:ext cx="257760" cy="25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53"/>
            <p:cNvSpPr/>
            <p:nvPr/>
          </p:nvSpPr>
          <p:spPr>
            <a:xfrm>
              <a:off x="7254000" y="2618640"/>
              <a:ext cx="257040" cy="25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54"/>
            <p:cNvSpPr/>
            <p:nvPr/>
          </p:nvSpPr>
          <p:spPr>
            <a:xfrm>
              <a:off x="3294360" y="5458680"/>
              <a:ext cx="774000" cy="77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55"/>
            <p:cNvSpPr/>
            <p:nvPr/>
          </p:nvSpPr>
          <p:spPr>
            <a:xfrm>
              <a:off x="2089800" y="4941720"/>
              <a:ext cx="602280" cy="60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56"/>
            <p:cNvSpPr/>
            <p:nvPr/>
          </p:nvSpPr>
          <p:spPr>
            <a:xfrm>
              <a:off x="1918080" y="2016720"/>
              <a:ext cx="34416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57"/>
            <p:cNvSpPr/>
            <p:nvPr/>
          </p:nvSpPr>
          <p:spPr>
            <a:xfrm>
              <a:off x="1745640" y="2618640"/>
              <a:ext cx="516600" cy="68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58"/>
            <p:cNvSpPr/>
            <p:nvPr/>
          </p:nvSpPr>
          <p:spPr>
            <a:xfrm>
              <a:off x="4155840" y="2963160"/>
              <a:ext cx="25776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59"/>
            <p:cNvSpPr/>
            <p:nvPr/>
          </p:nvSpPr>
          <p:spPr>
            <a:xfrm>
              <a:off x="4241160" y="2618640"/>
              <a:ext cx="257040" cy="26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60"/>
            <p:cNvSpPr/>
            <p:nvPr/>
          </p:nvSpPr>
          <p:spPr>
            <a:xfrm>
              <a:off x="4758120" y="2618640"/>
              <a:ext cx="2581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61"/>
            <p:cNvSpPr/>
            <p:nvPr/>
          </p:nvSpPr>
          <p:spPr>
            <a:xfrm>
              <a:off x="5187960" y="2618640"/>
              <a:ext cx="6022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62"/>
            <p:cNvSpPr/>
            <p:nvPr/>
          </p:nvSpPr>
          <p:spPr>
            <a:xfrm>
              <a:off x="7339320" y="1844640"/>
              <a:ext cx="34524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63"/>
            <p:cNvSpPr/>
            <p:nvPr/>
          </p:nvSpPr>
          <p:spPr>
            <a:xfrm>
              <a:off x="5360400" y="1930680"/>
              <a:ext cx="344160" cy="25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64"/>
            <p:cNvSpPr/>
            <p:nvPr/>
          </p:nvSpPr>
          <p:spPr>
            <a:xfrm>
              <a:off x="3897000" y="1930680"/>
              <a:ext cx="344160" cy="25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65"/>
            <p:cNvSpPr/>
            <p:nvPr/>
          </p:nvSpPr>
          <p:spPr>
            <a:xfrm>
              <a:off x="7339320" y="4684320"/>
              <a:ext cx="688680" cy="51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66"/>
            <p:cNvSpPr/>
            <p:nvPr/>
          </p:nvSpPr>
          <p:spPr>
            <a:xfrm>
              <a:off x="5876640" y="5114160"/>
              <a:ext cx="429480" cy="51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67"/>
            <p:cNvSpPr/>
            <p:nvPr/>
          </p:nvSpPr>
          <p:spPr>
            <a:xfrm>
              <a:off x="5016240" y="4856040"/>
              <a:ext cx="516600" cy="43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68"/>
            <p:cNvSpPr/>
            <p:nvPr/>
          </p:nvSpPr>
          <p:spPr>
            <a:xfrm>
              <a:off x="4500000" y="5544720"/>
              <a:ext cx="687600" cy="60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69"/>
            <p:cNvSpPr/>
            <p:nvPr/>
          </p:nvSpPr>
          <p:spPr>
            <a:xfrm>
              <a:off x="6307200" y="5372640"/>
              <a:ext cx="171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70"/>
            <p:cNvSpPr/>
            <p:nvPr/>
          </p:nvSpPr>
          <p:spPr>
            <a:xfrm flipH="1">
              <a:off x="7081200" y="4941720"/>
              <a:ext cx="25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71"/>
            <p:cNvSpPr/>
            <p:nvPr/>
          </p:nvSpPr>
          <p:spPr>
            <a:xfrm>
              <a:off x="6392520" y="5372640"/>
              <a:ext cx="720" cy="25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72"/>
            <p:cNvSpPr/>
            <p:nvPr/>
          </p:nvSpPr>
          <p:spPr>
            <a:xfrm>
              <a:off x="7167600" y="4941720"/>
              <a:ext cx="0" cy="34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73"/>
            <p:cNvSpPr/>
            <p:nvPr/>
          </p:nvSpPr>
          <p:spPr>
            <a:xfrm>
              <a:off x="6307200" y="5631120"/>
              <a:ext cx="429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74"/>
            <p:cNvSpPr/>
            <p:nvPr/>
          </p:nvSpPr>
          <p:spPr>
            <a:xfrm>
              <a:off x="7081200" y="5286240"/>
              <a:ext cx="34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75"/>
            <p:cNvSpPr/>
            <p:nvPr/>
          </p:nvSpPr>
          <p:spPr>
            <a:xfrm>
              <a:off x="6307200" y="5631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76"/>
            <p:cNvSpPr/>
            <p:nvPr/>
          </p:nvSpPr>
          <p:spPr>
            <a:xfrm>
              <a:off x="6737040" y="5631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77"/>
            <p:cNvSpPr/>
            <p:nvPr/>
          </p:nvSpPr>
          <p:spPr>
            <a:xfrm>
              <a:off x="7081200" y="528624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78"/>
            <p:cNvSpPr/>
            <p:nvPr/>
          </p:nvSpPr>
          <p:spPr>
            <a:xfrm>
              <a:off x="7425720" y="528624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Oval 79"/>
            <p:cNvSpPr/>
            <p:nvPr/>
          </p:nvSpPr>
          <p:spPr>
            <a:xfrm>
              <a:off x="6478920" y="5114160"/>
              <a:ext cx="602280" cy="43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80"/>
            <p:cNvSpPr/>
            <p:nvPr/>
          </p:nvSpPr>
          <p:spPr>
            <a:xfrm>
              <a:off x="6565320" y="4684320"/>
              <a:ext cx="515880" cy="42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Oval 81"/>
            <p:cNvSpPr/>
            <p:nvPr/>
          </p:nvSpPr>
          <p:spPr>
            <a:xfrm>
              <a:off x="6220800" y="5717160"/>
              <a:ext cx="257760" cy="2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82"/>
            <p:cNvSpPr/>
            <p:nvPr/>
          </p:nvSpPr>
          <p:spPr>
            <a:xfrm>
              <a:off x="6650640" y="5717160"/>
              <a:ext cx="258840" cy="2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83"/>
            <p:cNvSpPr/>
            <p:nvPr/>
          </p:nvSpPr>
          <p:spPr>
            <a:xfrm>
              <a:off x="6994800" y="5458680"/>
              <a:ext cx="172440" cy="172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84"/>
            <p:cNvSpPr/>
            <p:nvPr/>
          </p:nvSpPr>
          <p:spPr>
            <a:xfrm>
              <a:off x="7339320" y="5458680"/>
              <a:ext cx="172440" cy="172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85"/>
            <p:cNvSpPr/>
            <p:nvPr/>
          </p:nvSpPr>
          <p:spPr>
            <a:xfrm>
              <a:off x="4069440" y="5717160"/>
              <a:ext cx="43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86"/>
            <p:cNvSpPr/>
            <p:nvPr/>
          </p:nvSpPr>
          <p:spPr>
            <a:xfrm>
              <a:off x="4069440" y="5803200"/>
              <a:ext cx="43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87"/>
            <p:cNvSpPr/>
            <p:nvPr/>
          </p:nvSpPr>
          <p:spPr>
            <a:xfrm>
              <a:off x="1573560" y="4254120"/>
              <a:ext cx="232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88"/>
            <p:cNvSpPr/>
            <p:nvPr/>
          </p:nvSpPr>
          <p:spPr>
            <a:xfrm flipH="1">
              <a:off x="971640" y="2016720"/>
              <a:ext cx="344160" cy="25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89"/>
            <p:cNvSpPr/>
            <p:nvPr/>
          </p:nvSpPr>
          <p:spPr>
            <a:xfrm>
              <a:off x="1057680" y="2016720"/>
              <a:ext cx="171360" cy="25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90"/>
            <p:cNvSpPr/>
            <p:nvPr/>
          </p:nvSpPr>
          <p:spPr>
            <a:xfrm>
              <a:off x="2004480" y="1930680"/>
              <a:ext cx="25776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91"/>
            <p:cNvSpPr/>
            <p:nvPr/>
          </p:nvSpPr>
          <p:spPr>
            <a:xfrm flipH="1">
              <a:off x="2004480" y="1930680"/>
              <a:ext cx="17136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92"/>
            <p:cNvSpPr/>
            <p:nvPr/>
          </p:nvSpPr>
          <p:spPr>
            <a:xfrm>
              <a:off x="2864880" y="1930680"/>
              <a:ext cx="257760" cy="25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93"/>
            <p:cNvSpPr/>
            <p:nvPr/>
          </p:nvSpPr>
          <p:spPr>
            <a:xfrm flipH="1">
              <a:off x="2950560" y="1930680"/>
              <a:ext cx="171720" cy="25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94"/>
            <p:cNvSpPr/>
            <p:nvPr/>
          </p:nvSpPr>
          <p:spPr>
            <a:xfrm>
              <a:off x="3897000" y="1930680"/>
              <a:ext cx="258840" cy="25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95"/>
            <p:cNvSpPr/>
            <p:nvPr/>
          </p:nvSpPr>
          <p:spPr>
            <a:xfrm flipH="1">
              <a:off x="3982680" y="1930680"/>
              <a:ext cx="172440" cy="25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96"/>
            <p:cNvSpPr/>
            <p:nvPr/>
          </p:nvSpPr>
          <p:spPr>
            <a:xfrm flipV="1">
              <a:off x="4413960" y="1844280"/>
              <a:ext cx="257760" cy="25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97"/>
            <p:cNvSpPr/>
            <p:nvPr/>
          </p:nvSpPr>
          <p:spPr>
            <a:xfrm>
              <a:off x="4413960" y="1844640"/>
              <a:ext cx="257760" cy="25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98"/>
            <p:cNvSpPr/>
            <p:nvPr/>
          </p:nvSpPr>
          <p:spPr>
            <a:xfrm>
              <a:off x="5360400" y="1844640"/>
              <a:ext cx="344160" cy="43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99"/>
            <p:cNvSpPr/>
            <p:nvPr/>
          </p:nvSpPr>
          <p:spPr>
            <a:xfrm flipH="1">
              <a:off x="5445720" y="1844640"/>
              <a:ext cx="172440" cy="43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00"/>
            <p:cNvSpPr/>
            <p:nvPr/>
          </p:nvSpPr>
          <p:spPr>
            <a:xfrm>
              <a:off x="7339320" y="1844640"/>
              <a:ext cx="344160" cy="25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01"/>
            <p:cNvSpPr/>
            <p:nvPr/>
          </p:nvSpPr>
          <p:spPr>
            <a:xfrm>
              <a:off x="5790240" y="2790720"/>
              <a:ext cx="6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02"/>
            <p:cNvSpPr/>
            <p:nvPr/>
          </p:nvSpPr>
          <p:spPr>
            <a:xfrm>
              <a:off x="2262600" y="2704680"/>
              <a:ext cx="51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Footer Placeholder 3"/>
          <p:cNvSpPr/>
          <p:nvPr/>
        </p:nvSpPr>
        <p:spPr>
          <a:xfrm>
            <a:off x="380880" y="658188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618a"/>
                </a:solidFill>
                <a:latin typeface="Arial"/>
                <a:ea typeface="Arial"/>
              </a:rPr>
              <a:t>© British Agencies for Adoption and Fostering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Užitečné rady k tvorbě rodokmen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560" y="1700280"/>
            <a:ext cx="8497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Je-li to možné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zapojte do tvorby rodokmenu všechny členy domácnost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Vysvětlete rodině, jak tento rodokmen využijete při hodnocen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oužijte list papíru většího formátu a barevné fix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Dohodněte se na symbolech, které budou použ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a začátku nezáleží tolik na úpravě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jako spíše na tom, aby byly zaznamenány důležité informace – s úpravou je možné pohrát si pozděj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380880" y="658188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618a"/>
                </a:solidFill>
                <a:latin typeface="Arial"/>
                <a:ea typeface="Arial"/>
              </a:rPr>
              <a:t>© British Agencies for Adoption and Fostering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oužívání rodokme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4920" y="1773000"/>
            <a:ext cx="8001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aké další oblasti můžete pomocí rodokmenu prozkouma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zdravotní sta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ostižen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ostoje k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sexuali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zkušenosti s rodičovstvím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ěstounstvím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dopc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ůznorodos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kázeň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380880" y="658188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618a"/>
                </a:solidFill>
                <a:latin typeface="Arial"/>
                <a:ea typeface="Arial"/>
              </a:rPr>
              <a:t>© British Agencies for Adoption and Fostering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komap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Vizuální znázornění vztahových aktivit a vlivů, jaké dítě nebo dospělá osoba mají v rodinném systém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o ekomapy budou zahrnuti členové rodiny, důležití přátelé nebo zkušení rádci či učitelé a další příbuzní a důležité aktiv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V ekomapě by měla být znázorněna jak pomoc a podpora poskytovaná, tak přijímaná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380880" y="658188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618a"/>
                </a:solidFill>
                <a:latin typeface="Arial"/>
                <a:ea typeface="Arial"/>
              </a:rPr>
              <a:t>© British Agencies for Adoption and Fostering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komap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380880" y="658188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618a"/>
                </a:solidFill>
                <a:latin typeface="Arial"/>
                <a:ea typeface="Arial"/>
              </a:rPr>
              <a:t>© British Agencies for Adoption and Fostering 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214800" y="2786040"/>
            <a:ext cx="1928880" cy="16430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5"/>
          <p:cNvSpPr/>
          <p:nvPr/>
        </p:nvSpPr>
        <p:spPr>
          <a:xfrm>
            <a:off x="6429240" y="1785960"/>
            <a:ext cx="1214640" cy="10717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val 6"/>
          <p:cNvSpPr/>
          <p:nvPr/>
        </p:nvSpPr>
        <p:spPr>
          <a:xfrm>
            <a:off x="5214960" y="4286160"/>
            <a:ext cx="1285920" cy="1285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>
            <a:off x="785880" y="2000160"/>
            <a:ext cx="1357200" cy="135756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8"/>
          <p:cNvSpPr/>
          <p:nvPr/>
        </p:nvSpPr>
        <p:spPr>
          <a:xfrm>
            <a:off x="2643120" y="4643280"/>
            <a:ext cx="1357560" cy="1285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Straight Arrow Connector 10"/>
          <p:cNvCxnSpPr/>
          <p:nvPr/>
        </p:nvCxnSpPr>
        <p:spPr>
          <a:xfrm>
            <a:off x="2142720" y="2857680"/>
            <a:ext cx="114372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Straight Arrow Connector 12"/>
          <p:cNvCxnSpPr/>
          <p:nvPr/>
        </p:nvCxnSpPr>
        <p:spPr>
          <a:xfrm flipV="1">
            <a:off x="5072040" y="2499480"/>
            <a:ext cx="1357920" cy="78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Straight Arrow Connector 14"/>
          <p:cNvCxnSpPr>
            <a:endCxn id="253" idx="1"/>
          </p:cNvCxnSpPr>
          <p:nvPr/>
        </p:nvCxnSpPr>
        <p:spPr>
          <a:xfrm>
            <a:off x="4928760" y="4071960"/>
            <a:ext cx="475560" cy="403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Straight Arrow Connector 17"/>
          <p:cNvCxnSpPr/>
          <p:nvPr/>
        </p:nvCxnSpPr>
        <p:spPr>
          <a:xfrm flipH="1">
            <a:off x="3499920" y="4286160"/>
            <a:ext cx="215280" cy="357840"/>
          </a:xfrm>
          <a:prstGeom prst="straightConnector1">
            <a:avLst/>
          </a:prstGeom>
          <a:ln w="255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260" name="Slide Number Placeholder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920" y="1628280"/>
            <a:ext cx="8642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yriad Web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Myriad Web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Myriad Web"/>
              </a:rPr>
              <a:t>Supervize a podpora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975040" cy="8859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-1981080" y="6032520"/>
            <a:ext cx="10744200" cy="673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457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Stávající a nové formy pěstounské péče</a:t>
            </a:r>
            <a:br>
              <a:rPr sz="2400"/>
            </a:br>
            <a:br>
              <a:rPr sz="16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Pěstounská péče pro děti, které potřebují péči na dlouhou dob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Pěstounská péče pro děti, které potřebují okamžitou pomoc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Pěstounská péče pro děti, které potřebují péči na krátkou dob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Pěstounská péče zaměřená na podporu a pomoc rodiče s dítět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Pěstounská péče dlouhodobá specializovaná pro děti se specifickými potřeb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1 Péče určená dětem se speciálními potřeb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2 Péče určená pro sourozenecké skupin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3 Péče určená dospívající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4 Péče určená dětem jiného etnik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. Respitní – odlehčovací péč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. Pohotovostní umístění pro děti, o které se neplánovaně rodina nemůže postarat</a:t>
            </a:r>
            <a:br>
              <a:rPr sz="1700"/>
            </a:br>
            <a:br>
              <a:rPr sz="16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5029200" cy="1496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1981080" y="6032520"/>
            <a:ext cx="10744200" cy="673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5620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642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0000"/>
                </a:solidFill>
                <a:latin typeface="Myriad Web"/>
              </a:rPr>
              <a:t>	</a:t>
            </a:r>
            <a:r>
              <a:rPr b="1" lang="cs-CZ" sz="2000" spc="-1" strike="noStrike">
                <a:solidFill>
                  <a:srgbClr val="cc0000"/>
                </a:solidFill>
                <a:latin typeface="Myriad Web"/>
              </a:rPr>
              <a:t>	</a:t>
            </a:r>
            <a:r>
              <a:rPr b="1" lang="cs-CZ" sz="2000" spc="-1" strike="noStrike">
                <a:solidFill>
                  <a:srgbClr val="cc0000"/>
                </a:solidFill>
                <a:latin typeface="Myriad Web"/>
              </a:rPr>
              <a:t>	</a:t>
            </a:r>
            <a:r>
              <a:rPr b="1" lang="cs-CZ" sz="2000" spc="-1" strike="noStrike">
                <a:solidFill>
                  <a:srgbClr val="cc0000"/>
                </a:solidFill>
                <a:latin typeface="Myriad Web"/>
              </a:rPr>
              <a:t>Struktura přípravy</a:t>
            </a:r>
            <a:br>
              <a:rPr sz="2800"/>
            </a:br>
            <a:br>
              <a:rPr sz="2000"/>
            </a:br>
            <a:r>
              <a:rPr b="1" lang="cs-CZ" sz="2000" spc="-1" strike="noStrike">
                <a:solidFill>
                  <a:srgbClr val="cc0000"/>
                </a:solidFill>
                <a:latin typeface="Myriad Web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cc0000"/>
                </a:solidFill>
                <a:latin typeface="Myriad Web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nábor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 zájemci o pěstounskou péči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 společná informační schůzka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 vyplnění dotazníku předběžného zájmu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 výběr zájemců (20 rodin)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 1. návštěva v rodině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 výběr zájemců (10 rodin)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 zasmluvnění rodin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 začátek individuální přípravy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 skupinová příprava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 pokračování individuální přípravy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 panel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 ne/doporučení stát se pěstouny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3013200" cy="896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1981080" y="6032520"/>
            <a:ext cx="10744200" cy="673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495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Zájemci o nové formy pěstounské péče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pracovníci ústavních zařízení (DD, kojenecký ústav, ÚSP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pracovníci sociálních odborů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pracovníci NNO, mateřských cen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nemocnice, zdravotnická zařízení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úřad práce Pardubi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pěstounské rodiny využívající služeb Amalthea o.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veřejnost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5029200" cy="1496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1981080" y="6032520"/>
            <a:ext cx="10744200" cy="673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5620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1557000"/>
            <a:ext cx="8642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Myriad Web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Myriad Web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Myriad Web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Myriad Web"/>
              </a:rPr>
              <a:t>Individuální příprava</a:t>
            </a: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Myriad Web"/>
              </a:rPr>
              <a:t> harmonogram: říjen 2010 – únor 2011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Myriad Web"/>
              </a:rPr>
              <a:t> rozsah: 30 hodin/rodin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yriad Web"/>
              </a:rPr>
              <a:t>15 hodin – přímá práce v rodině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yriad Web"/>
              </a:rPr>
              <a:t>15 hodin – příprava a vyhodnocení, zpracování Zprávy o zájemci o pěstounství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Myriad Web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Myriad Web"/>
              </a:rPr>
              <a:t> obsah: zhodnocení předpokladů zájemců stát se pěstouny pro určitou formu PP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Myriad Web"/>
              </a:rPr>
              <a:t> výstup: zpracovaný Zpráva o zájemci o pěstounství jako základní materiál pro rozhodování v Panelu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Myriad Web"/>
              </a:rPr>
              <a:t> realizátoři: pracovníci Amalthea o.s., Pardubického kraje, CPP-RMP 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227640" y="189000"/>
            <a:ext cx="2687760" cy="799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-1981080" y="6032520"/>
            <a:ext cx="10744200" cy="673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319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41300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0000"/>
                </a:solidFill>
                <a:latin typeface="Myriad Web"/>
              </a:rPr>
              <a:t>	</a:t>
            </a:r>
            <a:r>
              <a:rPr b="1" lang="cs-CZ" sz="2000" spc="-1" strike="noStrike">
                <a:solidFill>
                  <a:srgbClr val="cc0000"/>
                </a:solidFill>
                <a:latin typeface="Myriad Web"/>
              </a:rPr>
              <a:t>Role a kompetence pracovníka pro ind. příprav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- vstupuje do intimního prostředí rodiny zájemců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- navazuje se zájemci úzkou spolupráci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- je partnerem v procesu odhalování kompetencí zájemců stát se pěstouny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- je vůči zájemcům transparentní (zájemce ví, co a proč se s ním v procesu hodnocení děje, rozumí procesu)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- pozoruje, mapuje, zjišťuje, odhaluje, doporučuje a hodnotí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- pracuje se všemi členy rodiny zájemců včetně biologických dětí v rodině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- obrací se na další osoby kolem rodiny (sousedé, lékař, známí, bývalí partneři zájemců, úřady…)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Myriad Web"/>
              </a:rPr>
              <a:t>- je zodpovědný za zpracování Zprávy o zájemci o pěstounstv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2759040" cy="820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-1981080" y="6032520"/>
            <a:ext cx="10744200" cy="673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495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PŮSOBILOST ZÁJEMCŮ O PĚSTOUNSTV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90b05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90b05"/>
                </a:solidFill>
                <a:latin typeface="Times New Roman"/>
                <a:ea typeface="Times New Roman"/>
              </a:rPr>
              <a:t>CO SE ROZUMÍ ZPŮSOBILOSTÍ A JAK JI MŮŽEME HODNOTIT</a:t>
            </a:r>
            <a:r>
              <a:rPr b="1" lang="en-US" sz="2000" spc="-1" strike="noStrike">
                <a:solidFill>
                  <a:srgbClr val="090b05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90b05"/>
                </a:solidFill>
                <a:latin typeface="Times New Roman"/>
                <a:ea typeface="Times New Roman"/>
              </a:rPr>
              <a:t>ZNAL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cs-CZ" sz="2000" spc="-1" strike="noStrike">
                <a:solidFill>
                  <a:srgbClr val="090b05"/>
                </a:solidFill>
                <a:latin typeface="Times New Roman"/>
                <a:ea typeface="Times New Roman"/>
              </a:rPr>
              <a:t>DOVEDNOSTI </a:t>
            </a:r>
            <a:r>
              <a:rPr b="1" lang="cs-CZ" sz="2000" spc="-1" strike="noStrike">
                <a:solidFill>
                  <a:srgbClr val="090b05"/>
                </a:solidFill>
                <a:latin typeface="Times New Roman"/>
                <a:ea typeface="Times New Roman"/>
              </a:rPr>
              <a:t>	</a:t>
            </a:r>
            <a:r>
              <a:rPr b="1" lang="cs-CZ" sz="2000" spc="-1" strike="noStrike">
                <a:solidFill>
                  <a:srgbClr val="090b05"/>
                </a:solidFill>
                <a:latin typeface="Times New Roman"/>
                <a:ea typeface="Times New Roman"/>
              </a:rPr>
              <a:t>	</a:t>
            </a:r>
            <a:r>
              <a:rPr b="1" lang="cs-CZ" sz="2000" spc="-1" strike="noStrike">
                <a:solidFill>
                  <a:srgbClr val="090b05"/>
                </a:solidFill>
                <a:latin typeface="Times New Roman"/>
                <a:ea typeface="Times New Roman"/>
              </a:rPr>
              <a:t>	</a:t>
            </a:r>
            <a:r>
              <a:rPr b="1" lang="cs-CZ" sz="2000" spc="-1" strike="noStrike">
                <a:solidFill>
                  <a:srgbClr val="090b05"/>
                </a:solidFill>
                <a:latin typeface="Times New Roman"/>
                <a:ea typeface="Times New Roman"/>
              </a:rPr>
              <a:t>HODNO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      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          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90b05"/>
                </a:solidFill>
                <a:latin typeface="Times New Roman"/>
                <a:ea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90b05"/>
                </a:solidFill>
                <a:latin typeface="Times New Roman"/>
                <a:ea typeface="Times New Roman"/>
              </a:rPr>
              <a:t>ZPŮSOBI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 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3851280" y="2852640"/>
            <a:ext cx="1459080" cy="684360"/>
          </a:xfrm>
          <a:prstGeom prst="triangle">
            <a:avLst>
              <a:gd name="adj" fmla="val 50921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0" y="4933800"/>
            <a:ext cx="83329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0" y="4511520"/>
            <a:ext cx="843120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79280" y="4581360"/>
            <a:ext cx="873612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Znalosti a dovednosti, které si daná osoba osvojila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 nimi související hodnoty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které tato osoba naplňuje v praktickém životě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9600" y="6308640"/>
            <a:ext cx="339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18a"/>
                </a:solidFill>
                <a:latin typeface="Times New Roman"/>
              </a:rPr>
              <a:t>© British Agencies for Adoption and Fostering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2421000"/>
            <a:ext cx="86421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yriad Web"/>
              </a:rPr>
              <a:t>Nástroje k hodnocení zájemců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yriad Web"/>
              </a:rPr>
              <a:t>Standardy pěstounských služeb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yriad Web"/>
              </a:rPr>
              <a:t>Zpráva o zájemci o pěstounství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903400" cy="863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1981080" y="6032520"/>
            <a:ext cx="10744200" cy="673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3874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4:02:09Z</dcterms:created>
  <dc:creator>Lukáš Pavlík</dc:creator>
  <dc:description/>
  <dc:language>en-US</dc:language>
  <cp:lastModifiedBy>cerna</cp:lastModifiedBy>
  <dcterms:modified xsi:type="dcterms:W3CDTF">2011-06-30T06:42:19Z</dcterms:modified>
  <cp:revision>84</cp:revision>
  <dc:subject/>
  <dc:title>Posláním o.s. Amalthea je podpora rodiny jako jedinečného prostředí pro naplňování potřeb dítěte prostřednictvím poskytování sociálních služeb a dalších odborných a společenských aktivit. </dc:title>
</cp:coreProperties>
</file>