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wmf" ContentType="image/x-wmf"/>
  <Override PartName="/ppt/media/image13.jpeg" ContentType="image/jpeg"/>
  <Override PartName="/ppt/media/image8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4.jpeg" ContentType="image/jpeg"/>
  <Override PartName="/ppt/media/image17.wmf" ContentType="image/x-wmf"/>
  <Override PartName="/ppt/media/image15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20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53B-EB8F-4B47-990A-BC74890D7C6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835A-7CCA-4A62-A9DB-3152EB82D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rticipate as much as you want to participate.  Interactive not a lecture – your experiences are valu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sten to others – show re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member we are all on a journey – some are further along than others,  share your experiences and help others gain from your experi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llenge the view, not the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A99B-6A63-40D2-958A-65A0F0D539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2CA3-5DE3-4F61-BC99-95396E9DA4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Times New Roman"/>
              </a:rPr>
              <a:t>Tato schůzka je o partnerství, spolupráci, týmové spoluprá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B9C-2664-45C8-B9BB-D1F24BB8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E67-169F-4572-9699-EE2C5FB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FBF-2CEE-41E6-911F-A82836D8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147-9678-40D8-B346-DF96FAA7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5F9-7849-411B-B0C4-B5AE2E93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125-B21C-4EA4-97F3-C783A6D4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B29-2859-4B1C-9681-5DC3E478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A78-EBB7-428E-9999-6A037F48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ECD-57CD-47A7-B5AF-9A574840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8F6-2D9C-4AE9-9731-59CEEA98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153-EBFE-403C-B9F6-D06CBE1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FA1-A65A-4CEC-8976-E539E34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F5A7-547C-4A84-A6D7-550460214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53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upinová příprav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jemců o pěstounství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logo_modre_rgb"/>
          <p:cNvPicPr/>
          <p:nvPr/>
        </p:nvPicPr>
        <p:blipFill>
          <a:blip r:embed="rId1"/>
          <a:stretch/>
        </p:blipFill>
        <p:spPr>
          <a:xfrm>
            <a:off x="2124000" y="4292640"/>
            <a:ext cx="173520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pr cerveny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2772000" cy="106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NEWBAAFBW"/>
          <p:cNvPicPr/>
          <p:nvPr/>
        </p:nvPicPr>
        <p:blipFill>
          <a:blip r:embed="rId4"/>
          <a:stretch/>
        </p:blipFill>
        <p:spPr>
          <a:xfrm>
            <a:off x="4859280" y="4869000"/>
            <a:ext cx="170964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500720" y="404640"/>
            <a:ext cx="38764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95280" y="1125360"/>
            <a:ext cx="81374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i by měli počítat s tím, že se v zájmu kvalitní péče o jim svěřené děti budou, ať už u nich doma či jinde, z různých důvodů vídat s dalšími odborník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i jsou v jedinečném postavení, které jim umožňuje vytvářet si názor na růst a zrání konkrétních mladých a lidí a vystupovat jejich jménem a a v jejich zájm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být připraveni svými názory a poznatky přispět při vyhodnocování situace, jakož i při příležitostech, kdy se diskutuje o rozhodnutích důležitých pro svěřené dě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95280" y="1006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Cvičení</a:t>
            </a:r>
            <a:br>
              <a:rPr sz="32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Kdo další je do kauzy zapojen “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rké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čtěte si příběh Marké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žijte se do své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vní vás napadá?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95280" y="1006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Times New Roman"/>
              </a:rPr>
              <a:t>Shrnutí cvič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Marké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ívejte se na tento materiál z různých perspek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ý je pravděpodobný postoj pěstounů a jak to ovlivní jejich schopnost spolupracovat s biologickými rodič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042920" y="1125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řestávka 10,15-10,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kotátka"/>
          <p:cNvPicPr/>
          <p:nvPr/>
        </p:nvPicPr>
        <p:blipFill>
          <a:blip r:embed="rId1"/>
          <a:stretch/>
        </p:blipFill>
        <p:spPr>
          <a:xfrm>
            <a:off x="1042920" y="1844640"/>
            <a:ext cx="6966000" cy="4637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198720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00000" y="98100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éče o děti a zák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824040" y="2332080"/>
            <a:ext cx="746748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se děje, když rodiče k vyřešení problematické situace potřebují čas a pomo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é si zákon klade požadavky v případě pěstounské péč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se v zákoně říká o oddělení dětí od rod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mi právy vzhledem k dětem disponují rodič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 je proces zařazení zájemců do evid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probíhá zprostředkování pěstounské péč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68360" y="10065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o je třeba vědě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11280" y="2205000"/>
            <a:ext cx="82296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tné zákony České republik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áce s rodič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ho se obrát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pora pěstou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ány péče dě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06064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95280" y="1628640"/>
            <a:ext cx="81374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vič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ěli byste být na mém mís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žijte se do role a vyplňte tabul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 dvojici si vzájemně sdělte svá stanovi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9640" y="119700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BĚ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,00 - 13,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oběd"/>
          <p:cNvPicPr/>
          <p:nvPr/>
        </p:nvPicPr>
        <p:blipFill>
          <a:blip r:embed="rId1"/>
          <a:stretch/>
        </p:blipFill>
        <p:spPr>
          <a:xfrm>
            <a:off x="1908000" y="1989000"/>
            <a:ext cx="5832720" cy="419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660680"/>
            <a:ext cx="8137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V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ledání kořenů, kontakt s rodin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 filmu Nevíta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5280" y="1660680"/>
            <a:ext cx="81374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vič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Udržování kontak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ze skupiny přečte příbě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myslete se nad otáz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95280" y="1341360"/>
            <a:ext cx="831996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9,00-10,15 Spolupráce s ostatní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zopakování pravidel a dohody o spolupráci, klíčové body, cviče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10,15 – 10,30 přestáv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0,30 – 12,00 Spolupráce s ostatní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péče o děti a zákony, cvič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2,00-13,15 obě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3,15 – 14,15 Spolupráce s ostatní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udržování kontaktů,  shrnut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14,15 – 14,30 přestáv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4,30 – 16,00 Bezpečná péč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cíle 5. části, cvičení, zneužívání dět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95280" y="1660680"/>
            <a:ext cx="8137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kapitulace 3. čá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věc, která mě zau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349360"/>
            <a:ext cx="78483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ČÁST 5</a:t>
            </a:r>
            <a:br>
              <a:rPr sz="4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pečná pé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dpr oranz"/>
          <p:cNvPicPr/>
          <p:nvPr/>
        </p:nvPicPr>
        <p:blipFill>
          <a:blip r:embed="rId1"/>
          <a:stretch/>
        </p:blipFill>
        <p:spPr>
          <a:xfrm>
            <a:off x="-1332000" y="189000"/>
            <a:ext cx="5410440" cy="145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pr cerveny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11640" y="189000"/>
            <a:ext cx="424800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 rot="10800000">
            <a:off x="468360" y="906840"/>
            <a:ext cx="8153280" cy="55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68360" y="549360"/>
            <a:ext cx="81532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Cíle 5. čá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brat podstatu a důsledky zneužívání dětí a vyhodnotit, jak reagovat na potřeby dětí, které byly zneužívány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oci členům skupiny zamyslet se nad změnami, které bude potřeba provést v budoucí pěstounské rodině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 rot="10800000">
            <a:off x="468360" y="162756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68360" y="1052640"/>
            <a:ext cx="8153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ství zasáhne do života každého v domácnosti, včetně všech dětí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ství může též ovlivnit životy širší rodiny, přátel a dalších lidí v okol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éče o zneužívané děti může v pěstounské rodině vyvolávat silné emo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95280" y="907920"/>
            <a:ext cx="81532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pracovník (případně s dalšími odborníky) zodpovídá za zajištění bezpečnosti dět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minimalizaci rizika možného obvinění ze zanedbávání či zneužívá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i mohou podniknout kroky, které vše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ěstounské rodině usnadní život a zmenší možné riziko jak pro dospělé tak pro dě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42920" y="1125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řestávka 14,15 – 14,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7" descr="kotátka"/>
          <p:cNvPicPr/>
          <p:nvPr/>
        </p:nvPicPr>
        <p:blipFill>
          <a:blip r:embed="rId1"/>
          <a:stretch/>
        </p:blipFill>
        <p:spPr>
          <a:xfrm>
            <a:off x="1042920" y="1844640"/>
            <a:ext cx="6966000" cy="4637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 rot="10800000">
            <a:off x="468360" y="907560"/>
            <a:ext cx="815328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11280" y="1052640"/>
            <a:ext cx="8153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Cvičení ve dvojicí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dinné rituá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ak to ve vaší domácnosti chodí, 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když se podává jídl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ak to vypadá ve vaší domácnosti, když se jde spá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-747720"/>
            <a:ext cx="815328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1052640"/>
            <a:ext cx="91440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vič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pište co nejvíce slov souvisejících se sex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A6C2-A273-4651-AA02-C46B68D80E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053480" y="6613560"/>
            <a:ext cx="19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DIN-Regular"/>
              </a:rPr>
              <a:t>© 2009 the Fostering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Page 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neužívání dětí a mladých lidí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 postižení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4232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ižené děti mohou být zranitelnějších tváří v tvář zneužíván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bo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pro ně být těžší zneužívání odolá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usí se jim podařit o dané nepravosti informovat okol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hou být zranitelnější v případech šikan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zastraš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hou být společensky izolovanějš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E437-8498-46F6-A799-9B07CA79B3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053480" y="6613560"/>
            <a:ext cx="19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DIN-Regular"/>
              </a:rPr>
              <a:t>© 2009 the Fostering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Page 1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o dětem ubližuj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ži či ž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lenové rod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dé, kteří vyhledávají děti za účelem zneuží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adí li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čovate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871380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95280" y="1268280"/>
            <a:ext cx="849780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,00-10,15 Bezpečná péč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,15 – 10,30 přestáv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,30 – 12,00 Bezpečná péč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,00-13,15 obě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3,15 – 14,45 Přechody z péče do péč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Zpětná vazba, ukončení, domácí úko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,45 – 15,00 přestáv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,15 – 16,00 Rekapitulace přípravy k pěstouns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hrnutí, zpětná vazba, louč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A355-49A9-4D71-8D02-96EE8FE78A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053480" y="6613560"/>
            <a:ext cx="19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DIN-Regular"/>
              </a:rPr>
              <a:t>© 2009 the Fostering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Page 1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někteří rodiče dětem ubližují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881080"/>
            <a:ext cx="669276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laky, které se mohou kombin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ějš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ř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9576-1A46-45F5-A752-0A30DF12E5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7053480" y="6613560"/>
            <a:ext cx="19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DIN-Regular"/>
              </a:rPr>
              <a:t>© 2009 the Fostering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Page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ůsledky zneužíván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7467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pad na vý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ti s postižení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pad na schopnost být dobrým rodič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h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661176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cc0000"/>
                </a:solidFill>
                <a:latin typeface="Arial"/>
              </a:rPr>
              <a:t>K zamyš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vinění vznášená vůči pěstounů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postupuje v případě, kdy dítě v pěstounské péči vznese obviněn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vá se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by se potom měla zachovat sociální pracovnice a samotní pěstou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Cvičení: přík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stavte si, že jste pěstoun/ka – proberte, jak byste se v dané situaci cítili a co byste učin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stavte si, že právě vy jste oním dítětem/dětmi – co byste si asi mysleli či cítil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Soň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(5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Rodina a jídl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5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Rodina a zanedbávání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(5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924360" y="2205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rnutí d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ěta která vás nap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7000" y="620640"/>
            <a:ext cx="3627360" cy="5718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468360" y="494172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337280" cy="4381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468360" y="494172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76720" y="1484280"/>
            <a:ext cx="277956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871380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95280" y="1268280"/>
            <a:ext cx="849780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,00-10,15 Bezpečná péč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,15 – 10,30 přestáv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,30 – 12,00 Bezpečná péč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,00-13,15 obě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3,15 – 14,45 Přechody z péče do péč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Zpětná vazba, ukončení, domácí úko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,45 – 15,00 přestáv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,15 – 16,00 Rekapitulace přípravy k pěstouns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hrnutí, zpětná vazba, loučení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14130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KOLOTO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Škála jak se mám  1-10 (10 je nejlép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mě včera zaujal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mě včera naštval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bych doporučil lektorům na dneš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 rot="10800000">
            <a:off x="468360" y="162756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68360" y="1484280"/>
            <a:ext cx="8153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Ochrana dětí a mladých lid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áce ve skupinkách - 4 kazuisti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se cítí pěstou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é potřeby mají dět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03280" y="1557360"/>
            <a:ext cx="648180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ZÁKLADNÍ PRAVID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ůvěr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spektujme naše odliš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tevřenost 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přím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rgumentujme s názory, nikoli s lid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slouchejme jeden druhé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áme právo říct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ktivní úč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í telefony vypnu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sah povinné úča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96000" y="44280"/>
            <a:ext cx="33480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042920" y="1052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řestávka 10,15 – 10,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kotátka"/>
          <p:cNvPicPr/>
          <p:nvPr/>
        </p:nvPicPr>
        <p:blipFill>
          <a:blip r:embed="rId1"/>
          <a:stretch/>
        </p:blipFill>
        <p:spPr>
          <a:xfrm>
            <a:off x="1042920" y="1844640"/>
            <a:ext cx="6966000" cy="4637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Cvičení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zikový pod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dvojicích se podívejte na poskytnutý materi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něte, zda jde o „Přirozenou“, či „Rizikovou“ záležit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0000"/>
                </a:solidFill>
                <a:latin typeface="Arial"/>
              </a:rPr>
              <a:t>Zamyšlení pro pěstou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46492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potencionální pěstoun by se měl zamyslet nad jednou věcí, která změní chod jeho domác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a věc, která by měla napomoci dítěti v pěstounské péči získat pocit bezpeč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 rot="10800000">
            <a:off x="468360" y="162756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68360" y="1484280"/>
            <a:ext cx="8153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Rekapitulace 5. části - shrnu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8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ČÁST 6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echody z péče do pé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dpr oranz"/>
          <p:cNvPicPr/>
          <p:nvPr/>
        </p:nvPicPr>
        <p:blipFill>
          <a:blip r:embed="rId1"/>
          <a:stretch/>
        </p:blipFill>
        <p:spPr>
          <a:xfrm>
            <a:off x="-1476360" y="692280"/>
            <a:ext cx="5410080" cy="145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dpr cerveny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995640" y="476280"/>
            <a:ext cx="49323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 6. čá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673000"/>
            <a:ext cx="647712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yslet se nad tím, jak může umístění do pěstounské péče na děti působ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jistit, jak mohou pěstouni dětem a mladým lidem pomoci zvládnout změnu prostředí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334836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íčové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2604600"/>
            <a:ext cx="669276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y dětí svěřených do pěstounské péče</a:t>
            </a:r>
            <a:r>
              <a:rPr b="0" lang="cs-CZ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často narušeny změnou a odmítáním. Pěstouni mohou dětem pomoci, aniž by přidávali k prožitým nepříjemnostem další negativa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ti a mladí lidé musejí mít možnost vnímat minulost a pěstouni jim v tom mohou pomoci, čímž u nich mohou posílit pocit kontinuity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334836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6BD8-0E8B-4383-A0F8-8A99670B40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7212240" y="6613560"/>
            <a:ext cx="19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DIN-Regular"/>
              </a:rPr>
              <a:t>© 2009 the Fostering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Page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íčové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179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ístění do pěstounské péče či odchod z ní je citové náročné pro všechny. Loučení je pro pěstouny a členy jejich rodiny často bolestivé, i když šlo vše podle plá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pěstounů a jejich rodin často nekončí okamžikem, kdy děti či mladí lidé odcházejí – je to dobré a v rámci plánu péče je třeba takový postup podporov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rava dětí a mladých lidí na samostatný život je kontinuální proces, který započíná v útlém věku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odílejí se na něm všichni pěstou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34836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 rot="10800000">
            <a:off x="468360" y="162756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68360" y="1484280"/>
            <a:ext cx="8153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DV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Neviditelné dě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3600" spc="-1" strike="noStrike">
                <a:solidFill>
                  <a:srgbClr val="cc0000"/>
                </a:solidFill>
                <a:latin typeface="Arial"/>
              </a:rPr>
              <a:t>Emir Kustu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539640" y="119700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BĚ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,00 - 13,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8" descr="oběd"/>
          <p:cNvPicPr/>
          <p:nvPr/>
        </p:nvPicPr>
        <p:blipFill>
          <a:blip r:embed="rId1"/>
          <a:stretch/>
        </p:blipFill>
        <p:spPr>
          <a:xfrm>
            <a:off x="1908000" y="1989000"/>
            <a:ext cx="5832720" cy="4197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Pj04332110000[1]"/>
          <p:cNvPicPr/>
          <p:nvPr/>
        </p:nvPicPr>
        <p:blipFill>
          <a:blip r:embed="rId1"/>
          <a:stretch/>
        </p:blipFill>
        <p:spPr>
          <a:xfrm>
            <a:off x="3276720" y="33336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MCBD06990_0000[1]"/>
          <p:cNvPicPr/>
          <p:nvPr/>
        </p:nvPicPr>
        <p:blipFill>
          <a:blip r:embed="rId2"/>
          <a:stretch/>
        </p:blipFill>
        <p:spPr>
          <a:xfrm>
            <a:off x="5148360" y="4149720"/>
            <a:ext cx="1807920" cy="15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Pj04385330000[1]"/>
          <p:cNvPicPr/>
          <p:nvPr/>
        </p:nvPicPr>
        <p:blipFill>
          <a:blip r:embed="rId3"/>
          <a:stretch/>
        </p:blipFill>
        <p:spPr>
          <a:xfrm>
            <a:off x="2195640" y="4365720"/>
            <a:ext cx="1800000" cy="129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MCj00889540000[1]"/>
          <p:cNvPicPr/>
          <p:nvPr/>
        </p:nvPicPr>
        <p:blipFill>
          <a:blip r:embed="rId4"/>
          <a:stretch/>
        </p:blipFill>
        <p:spPr>
          <a:xfrm>
            <a:off x="395280" y="620640"/>
            <a:ext cx="1801800" cy="148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Cj04298170000[1]"/>
          <p:cNvPicPr/>
          <p:nvPr/>
        </p:nvPicPr>
        <p:blipFill>
          <a:blip r:embed="rId5"/>
          <a:stretch/>
        </p:blipFill>
        <p:spPr>
          <a:xfrm>
            <a:off x="468360" y="278136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ying-yang"/>
          <p:cNvPicPr/>
          <p:nvPr/>
        </p:nvPicPr>
        <p:blipFill>
          <a:blip r:embed="rId6"/>
          <a:stretch/>
        </p:blipFill>
        <p:spPr>
          <a:xfrm>
            <a:off x="7093080" y="2421000"/>
            <a:ext cx="1295280" cy="1208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28760" y="2214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Diskrét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15636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Zdvořile naslouchej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788000" y="566100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ostavte se názoru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ne člověku, který ho zastáv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838920" y="3716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Respektujte odliš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0" y="4221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Soustřeďt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1571760" y="5715000"/>
            <a:ext cx="28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Každý může něčím přispě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987640" y="256536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Book Antiqua"/>
              </a:rPr>
              <a:t>Dohoda o spoluprá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18"/>
          <p:cNvSpPr/>
          <p:nvPr/>
        </p:nvSpPr>
        <p:spPr>
          <a:xfrm>
            <a:off x="0" y="6381720"/>
            <a:ext cx="4691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ritské sdružení pro adopci a pěstounskou péč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348000" y="1916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střícné a bezpečné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7236000" y="404640"/>
            <a:ext cx="1041120" cy="16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Cvičení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cs-CZ" sz="2800" spc="-1" strike="noStrike">
                <a:solidFill>
                  <a:srgbClr val="cc0000"/>
                </a:solidFill>
                <a:latin typeface="Arial"/>
              </a:rPr>
              <a:t>Bunda</a:t>
            </a:r>
            <a:r>
              <a:rPr b="1" lang="cs-CZ" sz="2800" spc="-1" strike="noStrike">
                <a:solidFill>
                  <a:srgbClr val="cc0000"/>
                </a:solidFill>
                <a:latin typeface="Times New Roman"/>
              </a:rPr>
              <a:t> a bat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k jste situaci vnímal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29264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 se takové situaci předejí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197080" cy="2473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Cvičení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z vašeho živ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šli jste si v útlém věku nutností změnit domácnost či stěhovat 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atujete se, co jste cítili nebo co vám pomohlo změnu absolvov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Cvič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7724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bavte si dítě v pěstounské pé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zásadního se v životě tohoto dítěte odehrá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ládnout změnu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11280" y="2420640"/>
            <a:ext cx="77724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sme schopni ovlivnit a zvládnout změnu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ou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otože jsme zažili stabili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vládnutí změn je důležitá adaptibili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*Tyto materiály jsou použity z knih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ansitions and Endings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(BAAF/Akamas/2009)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autorek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Kate Cairns &amp; Eileen Furs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a prostředí a děti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traumaty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062920" cy="32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é změny prostředí jsou nároč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é změny prostředí upevňují pocit, že daná situace jednou skonč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ti, které žily v nepřátelském prostředí, mají trau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vojov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odařilo se vyvinout účinný regulátor stre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tové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 regulovat stres je omez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je schopnost regulovat stres omezená, jakákoli změna prostředí můž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být traumatická a konec může být nejist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26920" y="6340320"/>
            <a:ext cx="752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*Tyto materiály jsou použity z knihy: 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itions and Endings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BAAF/Akamas/2009)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autorek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Kate Cairns &amp; Eileen Fur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219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dostatek odolnosti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negativní kódování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748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umatizované děti obvykle postrádají odolno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sou schopny snášet str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mají silné povědomí o vlastní identi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mají předchozí zkušenost s úspěšnou změnou prostře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ěří vlastní schopnosti mít na něco vl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sou schopny aktivně řešit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ědí, jak vyhledat pomoc ostatn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mají podporu rodiny a přá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ostatek pozitivních zkušeností a sebedůvěry vede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 vytváření značně negativní atmosfér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ýkající se změny, přechodu a cíl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6308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*Tyto materiály jsou použity z knihy: 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itions and Endings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BAAF/Akamas/2009)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autorek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Kate Cairns &amp; Eileen Fur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umatizované děti hůře snášejí změnu, přechod do jiného prostředí je pro ně těžší a nesnadno vnímají cílový stav pozitivně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také pravděpodobnější, že zažily neplánovanou, chaotickou či stresující změnu prostře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 traumatizovaných dětí je zásadním prostředkem plánování s dlouhodobým výhle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statečné citové po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tinu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louhodobý i krátkodobý přís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63403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*Tyto materiály jsou použity z knihy: 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itions and Endings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BAAF/Akamas/2009)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autorek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Kate Cairns &amp; Eileen Fur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lánovaná změna prostřed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ůže být u všech zúčastněných provázena zármutkem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ítě bude trpět zármutk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d ztrátou existujících citových p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hou začít smutnit nad předchozími ztrát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vající pečovatelé budou trpět zármutk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d ztrátou dítěte, ke kterému je pojí citové pou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hou začít smutnit nad předchozími ztrát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ví pečovatelé/adoptivní rodiče se mohou rmoutit, neboť dítě se ukáže být jiné, než očekáv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moutit se mohou i ostatní zainteresov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63403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*Tyto materiály jsou použity z knihy: 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itions and Endings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BAAF/Akamas/2009)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autorek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Kate Cairns &amp; Eileen Fur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Faktory ovlivňující zármutek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7487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idé na ztrátu reagují různě a jejich zármutek má různý průbě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leží to na celé řadě faktorů včet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obní odol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olečenské podp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ulturních oček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dchozí zkušenosti s úspěšně překonaného zárm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znamu připisovanému změně prostř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6340320"/>
            <a:ext cx="117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*Tyto materiály jsou použity z knihy: 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itions and Endings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BAAF/Akamas/2009)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autorek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Kate Cairns &amp; Eileen Fur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VD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„Nevítaní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2852640"/>
            <a:ext cx="77724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myslete se nad tím, jaký byl pro tyto mladé lidi vstup do pěstounské péč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1258920" y="1413000"/>
            <a:ext cx="6769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3. čá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Spoluprá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s ostatní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B803-810A-4083-8B2E-29FBA23350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7212240" y="6613560"/>
            <a:ext cx="19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DIN-Regular"/>
              </a:rPr>
              <a:t>© 2009 the Fostering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3" descr="Page 1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8377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íle při odchodu z péč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000" y="2590560"/>
            <a:ext cx="722772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ladí lidé musí být na odchod připraven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hodnotit situaci, připravit se a věc naplánov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ospělí musí bý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praveni mladé lidi podpoř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inanční podpo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661176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34836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133360"/>
            <a:ext cx="793116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mácí úkoly z Pracovní knih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ít si kapitoly 3, 5 a 6, sdílet nejasnosti s pracovníkem, který provádí Vaše hodnocení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žnost návštěvy ústavního zařízení po dohodě s vaším klíčovým pracovník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68360" y="1484280"/>
            <a:ext cx="813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kapitulace 6. čá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042920" y="1052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řestávka 14,45 – 1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7" descr="kotátka"/>
          <p:cNvPicPr/>
          <p:nvPr/>
        </p:nvPicPr>
        <p:blipFill>
          <a:blip r:embed="rId1"/>
          <a:stretch/>
        </p:blipFill>
        <p:spPr>
          <a:xfrm>
            <a:off x="1042920" y="1844640"/>
            <a:ext cx="6966000" cy="4637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 rot="10800000">
            <a:off x="395280" y="155628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hrnutí Přípravy k pěstoun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 nového jsem se dozvěděl/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 mě nejvíc překvapi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co se v pěstounství nejvíc těší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10800000">
            <a:off x="538920" y="1340280"/>
            <a:ext cx="815364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zkaz ostatní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ište ostatním vzkaz - podp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www.amalthea.pardubice.cz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dpr cerveny"/>
          <p:cNvPicPr/>
          <p:nvPr/>
        </p:nvPicPr>
        <p:blipFill>
          <a:blip r:embed="rId1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logo_modre_rgb"/>
          <p:cNvPicPr/>
          <p:nvPr/>
        </p:nvPicPr>
        <p:blipFill>
          <a:blip r:embed="rId2"/>
          <a:stretch/>
        </p:blipFill>
        <p:spPr>
          <a:xfrm>
            <a:off x="755640" y="404640"/>
            <a:ext cx="1562040" cy="1621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95280" y="1660680"/>
            <a:ext cx="81374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Cvičení ve dvojicí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é skupiny /týmu/ jste součástí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vás ve vaší skupině /týmu/ spoju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5280" y="1557360"/>
            <a:ext cx="81374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Arial"/>
              </a:rPr>
              <a:t>Cíle 3. části skupinové přípr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ážit, jak mohou pěstouni spolupracovat s dalšími stranam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jistit, jak spolupráce pěstounů, sociálních pracovníků a dalších odborníků vypadá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stínit zákonný ráme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8360" y="1125360"/>
            <a:ext cx="81374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ská péče je definována zákonem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ská péče se týká celé pěstounovy rodi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statnou složkou pěstounství je spolupráce s rodinou dítě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i jsou členy týmu odborníků pracujících pro dobro umístěných dětí a jejich rod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ožto členové týmu potřebují pěstouni k vykonávání své práce informace a podpor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02:09Z</dcterms:created>
  <dc:creator>Lukáš Pavlík</dc:creator>
  <dc:description/>
  <dc:language>en-US</dc:language>
  <cp:lastModifiedBy>cerna</cp:lastModifiedBy>
  <dcterms:modified xsi:type="dcterms:W3CDTF">2011-05-05T19:50:59Z</dcterms:modified>
  <cp:revision>217</cp:revision>
  <dc:subject/>
  <dc:title>Posláním o.s. Amalthea je podpora rodiny jako jedinečného prostředí pro naplňování potřeb dítěte prostřednictvím poskytování sociálních služeb a dalších odborných a společenských aktivit. </dc:title>
</cp:coreProperties>
</file>