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0BE6-AE7A-45C5-9350-3E93A209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5246-CB4F-4B54-8E5C-7EC67013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5F32-570B-4519-BFCA-0495EA1B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CDCE-FFFC-4F61-842C-C308888C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CF76-63DC-401C-BDA9-33603367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6082-CE14-487E-98F4-33D09B64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AA4E-B92D-4DAA-970F-8E6BE24B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B1D2-A6CF-40DD-A312-CA1EDB46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1769-F2D0-4E37-87B1-1A411398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27EE-FBAA-4D85-8B7D-9419B1BE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039D-5196-4ADF-843B-7F7C2C84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187A-4A21-4CB3-9628-EED5F90C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956B-99C1-4AB4-BB91-5F4F1DA62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3534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yriad Web"/>
              </a:rPr>
              <a:t>Skupinová příprav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Myriad Web"/>
              </a:rPr>
              <a:t>zájemců o pěstounství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00720" y="404640"/>
            <a:ext cx="3876480" cy="1154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124000" y="4292640"/>
            <a:ext cx="1735200" cy="1800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-1981080" y="6032520"/>
            <a:ext cx="10744200" cy="673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900000" y="404640"/>
            <a:ext cx="2772000" cy="1062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NEWBAAFBW"/>
          <p:cNvPicPr/>
          <p:nvPr/>
        </p:nvPicPr>
        <p:blipFill>
          <a:blip r:embed="rId5"/>
          <a:stretch/>
        </p:blipFill>
        <p:spPr>
          <a:xfrm>
            <a:off x="4859280" y="4869000"/>
            <a:ext cx="17096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3086280" cy="919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660680"/>
            <a:ext cx="813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Cvičení – ve dvoj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vás přivedlo k rozhodnutí stát se pěstoun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á vaše jedna pozitivní vlastnost či okolnost vám pomůže v péči o děti jiných lidí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veďte jednu věc, kterou od kurzu očekává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3086280" cy="919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166068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řestáv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3086280" cy="919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660680"/>
            <a:ext cx="813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č se o některé děti a mladé lidi musejí starat pěstoun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3086280" cy="919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660680"/>
            <a:ext cx="813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Videoukáz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Proč jsem se nepostarala o své dítě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 filmu Nevíta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:44,04 </a:t>
            </a:r>
            <a:r>
              <a:rPr b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0:47,02 (matka Honzík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3086280" cy="919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660680"/>
            <a:ext cx="81374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Zkušenosti přítomných pěstoun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iskuze ve skupinách (4 skupiny po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 pěstouni dělají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ak se liší pěstounství a rodičovství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ak se liší práce pěstouna od práce pečovatele v ústavním zařízení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3086280" cy="919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66068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Videoukáz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 filmu (Ne)chcené deti (O citovom stráda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elkový čas: 0:13,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3086280" cy="919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185840"/>
            <a:ext cx="8569440" cy="53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Případové studie Jan a N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 ve skupinách (4 skupiny po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 zaznamenání práce skupinky použijte pracovní l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učně a rychle se dohodněte, kdo bude zapisovat odpovědi celé skupinky do pracovního list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prvního sloupce zapište do každého okénka něco o úkolu či úkonu, který by, podle vašeho názoru, měl pěstoun splnit či provést, aby konkrétnímu dítěti pomoh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 druhém sloupci uveďte, jak by, podle vás, měl pěstoun daný úkol či úkon splnit nebo prové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vě z políček jsou již vyplněná (jedno jen z části), abyste viděli, jak máte postupova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3086280" cy="919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660680"/>
            <a:ext cx="8137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ekapitulace 1. čá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věc, která mě zauj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3086280" cy="919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1660680"/>
            <a:ext cx="813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BĚ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,00 - 13,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2997360"/>
            <a:ext cx="784836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ČÁST 2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A A ŠANCE V ŽIVOT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5029200" cy="1497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1447920" y="914400"/>
            <a:ext cx="5410440" cy="1459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-1981080" y="6032520"/>
            <a:ext cx="1074420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3086280" cy="91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557360"/>
            <a:ext cx="8137440" cy="44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Cíle skupinové přípravy a části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kytnout účastníkům informace o vědomostech, dovednostech a schopnostech, které budou potřebovat pro vstup do světa pěstounské péč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moci účastníkům zamyslet se nad vlastními hodnotami a postoji ve vztahu k úkolu pečovat o děti a mladé lidi oddělené od svých rod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kytnout účastníkům příležitost přemýšlet o dopadech pěstounství na vlastní rodinu a životní styl a pomoci jim rozhodnout se, zda je pro ně pěstounství správnou volbou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íle 2. čá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iblížit skupině zkušenosti a příběhy mladých lidí, kteří nežijí se svými rodina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ůraznit důležitost toho, aby měli děti a mladí lidé pocit jistoty ve vztahu k vlastní identitě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ívat se na to, jaký dopad mohou mít předsudky a diskriminace na šance dětí a mladých lidí v životě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Klíčové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ichni mladí lidé odněkud pocházejí a je důležité v nich budovat pozitivní identitu. Je zásadní pro sebeúct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bava dítěte, co se týče jazyka, kultury, talentu, náboženství a etnika, se značnou měrou podílí na jeho vnímání vlastní identit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ěstouni hrají důležitou roli v pomoci mladým lidem vážit si zděděného odkazu a opatrovat h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Klíčové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ti a mladí lidé v pěstounské péči mohou být kvůli tomu či kvůli etniku, náboženství, řeči, postižení nebo jiné stránce identity vystaveni diskriminac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ěstouni musí diskriminaci rozpoznat a postavit se jí. Kde je to nutné, musí děti a mladé lidi bránit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ichni máme předsudky. Každý, kdo je zapojen do péče o děti jiných lidí, si svých předsudků musí být vědom a bojovat s nimi, když by mohly zapříčinit nespravedlno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Cvičení ve dvojic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 čem vypovídá jmé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Jak jste přišli ke svému jmén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Kdo ho vybral?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Odkud pochází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Co pro vás znamená?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Líbí se vám, nebo nelíbí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Výb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bav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užitečným zastřešujícím výrazem, který popisuje vše, co člověk získal narozením v určité rodině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to napříkla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ná země či země před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jazy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ultur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hl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d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Ident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dentita = výbav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ejrůznější rozhodnutí v život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sme schopni rozhodovat o mnoha věcech, což spolu s výbavou dává dohromady naši identitu. Mezi těmito věcmi js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z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j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chova a vzděláv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átelstv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hodnutí se pro roli rodič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hodnutí se pro samostatný život či život s něký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e každý má ale možnost za sebe rozhodovat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3086280" cy="919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1660680"/>
            <a:ext cx="813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Videoukáz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Kdo jsem, kdo jsou moji rodič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 filmu Nevíta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:11,16 </a:t>
            </a:r>
            <a:r>
              <a:rPr b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0:12:23 (Pet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:05,26 </a:t>
            </a:r>
            <a:r>
              <a:rPr b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0:07,02 (maminky a mimink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:14,07 </a:t>
            </a:r>
            <a:r>
              <a:rPr b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0:14,39 (Honz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Cvičení zaměřené na identitu „panenka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(ve dvojicí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jednotlivých částí panenky napsat, co nás charakterizuje, čím jsm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Přestáv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Předsud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kud o někom nic nevíme, ale přesto o něm děláme závěry, máme předsudky a dopouštíme se předpojatosti.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S jakými předsudky se mohou setkat děti a mladí lidé v pěstounské péči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3086280" cy="919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557360"/>
            <a:ext cx="8137440" cy="44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Klíčové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ěstounská péče je složitá a emocionálně náročná prá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ěstouni pro děti a mladé lidi, kteří nemohou (ať už krátkodobě či dlouhodobě) žít ve svých rodinách, představují zásadní útočiště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ěstounství obvykle obnáší podporu kontaktu dětí s vlastními rodin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ěstounství podstatně změní život pěstouna, jakož i jeho dětí, přátel, širší rodiny a komunity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Cvičení na předsudky (4 skupiny po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á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– automatické myšlen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vás napadne jako první, kdy se řekne Rom, Romství, romské dítě,…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á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– konfrontace předsud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vím o jejich potřebách kulturního dědictv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kud pochází mé znalost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é názory, hodnoty a předsudky mohu mí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mohu změnit, abych umožnil plnou a upřímnou diskuzi o těchto záležitoste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Rasism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svědčení, že někteří lidé jsou díky příslušnosti k rase, barvě kůže, národnosti či etnickému původu nadřazeni jiný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asové předsudky mohou vést k rasové diskriminaci, a ta je nezákonn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Mohou se setkat děti a mladí lidé v pěstounské péči s rasismem?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Videoukázka – Miništrant (Návrat o.z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elkový čas: 0:02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1484280"/>
            <a:ext cx="8424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Diskrimin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iskriminac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chází, když je s někým zacházeno hůře kvů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hlav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tiž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tnickému půvo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zy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rod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zn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xuální orient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vlivňuje životní příležitosti, neboť člověku nespravedlivě ztěžuje přístup k práci, bydlení, vzdělání, službám at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Cvič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ovné životní příležit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ívejte se na kartičku, kterou jste dost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tavte se k jedné straně míst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tupte vpřed pouze v případě, že postava, kterou hrajete, může bez problémů na kladenou otázku odpovědět „ano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Vývojové stupně etnické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rození - 3 ro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atolata si uvědomují rozdíly v barvě kůže a rase a učí se názvy specifických skupin. Nechápou skutečný význam těchto přívlastků a mohou být na rozpacích při používání barev k popisu jak lidí, tak předmětů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ě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4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školáci obvykle identifikují svoji rasovou a etnickou skupinu a mohou přiřazovat pozitivní nebo negativní hodnoty své vlastní nebo jiným skupinám. Pocitové vztahy ke skupině se získávají přijímáním společenských hledisek z okolí, dokonce i v případě absence kontaktu nebo rodičovského poučen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Vývojové stupně etnické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ě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7-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evnější chápání vlastní rasové a etnické identity a – je-li příležitost – zkoumání toho, co plyne ze členství v této skupině. Typický věk pro účast na aktivitách skupiny s kulturními nebo výchovnými prvky, stejně jako věk, kdy vzory hrají zvlášť důležitou úlohu.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ě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12-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ividuální rozvoj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ěk zkoumání, včetně zjišťování významu rasy, etnika, kultury, osvojování a zjišťování, jak se tyto záležitosti týkají jednotlivce. Minulé zkušenosti určují pozitivní, negativní nebo přechodnou identitu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oseph Crumbley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1484280"/>
            <a:ext cx="8153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Rekapitulace druhé části - shrnut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0920" y="2997360"/>
            <a:ext cx="784836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ČÁST 4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OZUMĚNÍ DĚTEM V PĚSTOUNSKÉ PÉ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5029200" cy="14972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-1447920" y="914400"/>
            <a:ext cx="5410440" cy="1459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-1981080" y="6032520"/>
            <a:ext cx="1074420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OLOTO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Škála jak se mám  1-10 (10 je nejlépe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 mě včera zaujal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 mě včera naštval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 bych doporučil lektorům na dneše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3086280" cy="919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557360"/>
            <a:ext cx="813744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Klíčové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ěstouni jsou členy týmu lidí starajících se děti žijící mimo domov a potřebují být schopni dobře spolupracovat s ostatními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ěstouni potřebují supervizi, podporu, výcvik a vývoj – což platí pro všechny členy týmu pracujícího s dětmi v pěstounské péč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má nějakou užitečnou dovednost z jiných oblastí života, kterou může v pěstounské péči uplatnit. Existují metody, jak odhalit dovednosti, které již lidé mají, jakož i ty, které je třeba rozvinout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Cíle 4. čá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nout základní pochopení vývoje a citových vazeb dítěte, a vliv, který na ně mohou mít prožité zkušenos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oci účastníkům pochopit a zvládnout problematické chování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oci účastníkům porozumět, jakým způsobem mohou poskytnout bezpečné útočiště a budovat odolnost a sebeúct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Klíčové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ti do pěstounských rodin přicházejí s celou řadou pocitů, očekávání a návyk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chopení dětského vývoje pěstounům pomůže porozumět konkrétním dětem a jejich chování. Je třeba, aby si pěstouni uvědomili, že vývoj dětí v pěstounské péči se může lišit od vývoje od ostatních dětí stejného věk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em zdravého vývoje v dětství je pocit bezpečí a náklonnosti ve vztahu k osobě, která o dítě peču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Klíčové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kolem pěstounů je mimo jiné budování pocitu bezpečí pro děti, jejichž vztah k lidem, které o ně měli pečovat, byl nezřídka plný obav a nejistot. Prvním krokem na této cestě je získání důvěr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též třeba, aby pěstouni pochopili, jakým způsobem mladí lidé reagují na nesnáze, a aby rozvíjeli jejich odolnost. Zvládání problematického chování by se mělo odvíjet od jeho příčin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pěstounské péči nesmí být NIKDY používány tělesné tresty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Znalost vývoje dět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 skupiny po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čem se liší vývoj dítěte, které jste přijali, od vývoje Vašeho vlastního dítě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jakých situacích jste si uvědomili, že vývoj je opožděný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racovní kniha (str. 12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vič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o mě vytáčí?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1484280"/>
            <a:ext cx="87854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Důležitost dostatečného citového pout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Citovým poutem se rozumí vztah dítěte k rodičům či jiným osobám, které o ně pečují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ěti od narození vyhledávají citovou blízkost rodiče či osoby, která o ně pečuje – osoby, která jim poskytne péči a ochranu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Malé děti na stres reagují specifickým chováním, jehož podstatou je hledání osoby, které důvěřují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právné je, když mají malé děti nablízku lidi, kteří jsou schopni odpovídajícím způsobem reagovat a pomoci jim stres zvládnou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kud je takové „útočiště“ „dostatečně kvalitní“, dítěti to umožňuje se uvolnit, objevovat vlastní svět a mít z něho rados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ostatečné citové pouto je základem zdravého vývoje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380880" y="6581880"/>
            <a:ext cx="3429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618a"/>
                </a:solidFill>
                <a:latin typeface="Arial"/>
                <a:ea typeface="Arial"/>
              </a:rPr>
              <a:t>© British Association for Adoption &amp; Fostering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e22d1"/>
                </a:solidFill>
                <a:latin typeface="Times New Roman"/>
              </a:rPr>
              <a:t>Vazby, pouta a</a:t>
            </a:r>
            <a:r>
              <a:rPr b="0" lang="en-GB" sz="3200" spc="-1" strike="noStrike">
                <a:solidFill>
                  <a:srgbClr val="de22d1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e22d1"/>
                </a:solidFill>
                <a:latin typeface="Times New Roman"/>
              </a:rPr>
              <a:t>naladě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886200" y="1371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ÍT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809880" y="3352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6248520" y="2362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z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447920" y="2362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5181480" y="1447920"/>
            <a:ext cx="3657600" cy="2438280"/>
          </a:xfrm>
          <a:custGeom>
            <a:avLst/>
            <a:gdLst>
              <a:gd name="textAreaLeft" fmla="*/ 489960 w 3657600"/>
              <a:gd name="textAreaRight" fmla="*/ 3167640 w 3657600"/>
              <a:gd name="textAreaTop" fmla="*/ 493560 h 2438280"/>
              <a:gd name="textAreaBottom" fmla="*/ 170100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44" stAng="-5400000" swAng="5400000"/>
                <a:lnTo>
                  <a:pt x="21600" y="10696"/>
                </a:lnTo>
                <a:arcTo wR="21600" hR="8744" stAng="0" swAng="2932019"/>
                <a:lnTo>
                  <a:pt x="7200" y="21100"/>
                </a:lnTo>
                <a:lnTo>
                  <a:pt x="0" y="18464"/>
                </a:lnTo>
                <a:lnTo>
                  <a:pt x="7200" y="14828"/>
                </a:lnTo>
                <a:lnTo>
                  <a:pt x="7200" y="16988"/>
                </a:lnTo>
                <a:arcTo wR="21600" hR="8744" stAng="2932019" swAng="-2775815"/>
                <a:lnTo>
                  <a:pt x="21465" y="9720"/>
                </a:lnTo>
                <a:arcTo wR="21600" hR="8744" stAng="-156204" swAng="-5243796"/>
                <a:close/>
              </a:path>
              <a:path fill="darkenLess" w="21600" h="21600">
                <a:moveTo>
                  <a:pt x="0" y="0"/>
                </a:moveTo>
                <a:arcTo wR="21600" hR="8744" stAng="-5400000" swAng="5400000"/>
                <a:lnTo>
                  <a:pt x="21600" y="10696"/>
                </a:lnTo>
                <a:arcTo wR="21600" hR="8744" stAng="0" swAng="-156204"/>
                <a:lnTo>
                  <a:pt x="21465" y="9720"/>
                </a:lnTo>
                <a:arcTo wR="21600" hR="8744" stAng="-156204" swAng="-5243796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9"/>
          <p:cNvSpPr/>
          <p:nvPr/>
        </p:nvSpPr>
        <p:spPr>
          <a:xfrm rot="10708200">
            <a:off x="298080" y="1067760"/>
            <a:ext cx="3359160" cy="2819160"/>
          </a:xfrm>
          <a:custGeom>
            <a:avLst/>
            <a:gdLst>
              <a:gd name="textAreaLeft" fmla="*/ 450000 w 3359160"/>
              <a:gd name="textAreaRight" fmla="*/ 2909160 w 3359160"/>
              <a:gd name="textAreaTop" fmla="*/ 537840 h 2819160"/>
              <a:gd name="textAreaBottom" fmla="*/ 192096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244" stAng="-5400000" swAng="5400000"/>
                <a:lnTo>
                  <a:pt x="21600" y="10597"/>
                </a:lnTo>
                <a:arcTo wR="21600" hR="8244" stAng="0" swAng="2794828"/>
                <a:lnTo>
                  <a:pt x="7337" y="21110"/>
                </a:lnTo>
                <a:lnTo>
                  <a:pt x="0" y="17664"/>
                </a:lnTo>
                <a:lnTo>
                  <a:pt x="7337" y="13237"/>
                </a:lnTo>
                <a:lnTo>
                  <a:pt x="7337" y="15997"/>
                </a:lnTo>
                <a:arcTo wR="21600" hR="8244" stAng="2794828" swAng="-2605836"/>
                <a:lnTo>
                  <a:pt x="21379" y="9420"/>
                </a:lnTo>
                <a:arcTo wR="21600" hR="8244" stAng="-188992" swAng="-5211008"/>
                <a:close/>
              </a:path>
              <a:path fill="darkenLess" w="21600" h="21600">
                <a:moveTo>
                  <a:pt x="0" y="0"/>
                </a:moveTo>
                <a:arcTo wR="21600" hR="8244" stAng="-5400000" swAng="5400000"/>
                <a:lnTo>
                  <a:pt x="21600" y="10597"/>
                </a:lnTo>
                <a:arcTo wR="21600" hR="8244" stAng="0" swAng="-188992"/>
                <a:lnTo>
                  <a:pt x="21379" y="9420"/>
                </a:lnTo>
                <a:arcTo wR="21600" hR="8244" stAng="-188992" swAng="-5211008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274320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1" descr="MPj02899170000[1]"/>
          <p:cNvPicPr/>
          <p:nvPr/>
        </p:nvPicPr>
        <p:blipFill>
          <a:blip r:embed="rId1"/>
          <a:stretch/>
        </p:blipFill>
        <p:spPr>
          <a:xfrm>
            <a:off x="2971800" y="1752480"/>
            <a:ext cx="2895480" cy="1676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fosterpic32"/>
          <p:cNvPicPr/>
          <p:nvPr/>
        </p:nvPicPr>
        <p:blipFill>
          <a:blip r:embed="rId2"/>
          <a:stretch/>
        </p:blipFill>
        <p:spPr>
          <a:xfrm>
            <a:off x="2843280" y="3933720"/>
            <a:ext cx="3666960" cy="2365560"/>
          </a:xfrm>
          <a:prstGeom prst="rect">
            <a:avLst/>
          </a:prstGeom>
          <a:ln w="0">
            <a:noFill/>
          </a:ln>
        </p:spPr>
      </p:pic>
      <p:sp>
        <p:nvSpPr>
          <p:cNvPr id="209" name="Footer Placeholder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  <a:ea typeface="Arial"/>
              </a:rPr>
              <a:t>© BAAF, Chrudim, říjen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380880" y="6581880"/>
            <a:ext cx="3429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618a"/>
                </a:solidFill>
                <a:latin typeface="Arial"/>
                <a:ea typeface="Arial"/>
              </a:rPr>
              <a:t>© British Association for Adoption &amp; Fostering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Postup reagování na st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8893080" cy="59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ečující osob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v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aguj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do stavu klid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zn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bezpečí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př. špat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cházení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Žádná odezv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oj nebo rezign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b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ečující osob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náležitá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dměrné vzrušení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ak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odpojení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4"/>
          <p:cNvSpPr/>
          <p:nvPr/>
        </p:nvSpPr>
        <p:spPr>
          <a:xfrm flipV="1">
            <a:off x="2987640" y="1700280"/>
            <a:ext cx="1152720" cy="93672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5"/>
          <p:cNvSpPr/>
          <p:nvPr/>
        </p:nvSpPr>
        <p:spPr>
          <a:xfrm>
            <a:off x="5072040" y="1268280"/>
            <a:ext cx="100800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4071960" y="3286080"/>
            <a:ext cx="576360" cy="287280"/>
          </a:xfrm>
          <a:prstGeom prst="line">
            <a:avLst/>
          </a:prstGeom>
          <a:ln w="5724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7"/>
          <p:cNvSpPr/>
          <p:nvPr/>
        </p:nvSpPr>
        <p:spPr>
          <a:xfrm flipH="1">
            <a:off x="4643280" y="4076640"/>
            <a:ext cx="720720" cy="432000"/>
          </a:xfrm>
          <a:prstGeom prst="line">
            <a:avLst/>
          </a:prstGeom>
          <a:ln w="5724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4716360" y="4797360"/>
            <a:ext cx="576360" cy="576360"/>
          </a:xfrm>
          <a:prstGeom prst="line">
            <a:avLst/>
          </a:prstGeom>
          <a:ln w="5724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9" descr="j0178833"/>
          <p:cNvPicPr/>
          <p:nvPr/>
        </p:nvPicPr>
        <p:blipFill>
          <a:blip r:embed="rId1"/>
          <a:stretch/>
        </p:blipFill>
        <p:spPr>
          <a:xfrm>
            <a:off x="2124000" y="2781360"/>
            <a:ext cx="1944720" cy="1297080"/>
          </a:xfrm>
          <a:prstGeom prst="rect">
            <a:avLst/>
          </a:prstGeom>
          <a:ln w="0">
            <a:noFill/>
          </a:ln>
        </p:spPr>
      </p:pic>
      <p:sp>
        <p:nvSpPr>
          <p:cNvPr id="219" name="Line 10"/>
          <p:cNvSpPr/>
          <p:nvPr/>
        </p:nvSpPr>
        <p:spPr>
          <a:xfrm>
            <a:off x="1714680" y="3571920"/>
            <a:ext cx="360360" cy="0"/>
          </a:xfrm>
          <a:prstGeom prst="line">
            <a:avLst/>
          </a:prstGeom>
          <a:ln w="5724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1"/>
          <p:cNvSpPr/>
          <p:nvPr/>
        </p:nvSpPr>
        <p:spPr>
          <a:xfrm>
            <a:off x="7164360" y="4508640"/>
            <a:ext cx="0" cy="936360"/>
          </a:xfrm>
          <a:prstGeom prst="line">
            <a:avLst/>
          </a:prstGeom>
          <a:ln w="5724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2"/>
          <p:cNvSpPr/>
          <p:nvPr/>
        </p:nvSpPr>
        <p:spPr>
          <a:xfrm flipV="1">
            <a:off x="7740720" y="4508280"/>
            <a:ext cx="0" cy="865080"/>
          </a:xfrm>
          <a:prstGeom prst="line">
            <a:avLst/>
          </a:prstGeom>
          <a:ln w="5724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3"/>
          <p:cNvSpPr/>
          <p:nvPr/>
        </p:nvSpPr>
        <p:spPr>
          <a:xfrm>
            <a:off x="4788000" y="4724280"/>
            <a:ext cx="2160360" cy="0"/>
          </a:xfrm>
          <a:prstGeom prst="line">
            <a:avLst/>
          </a:prstGeom>
          <a:ln w="5724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3132000" y="4076640"/>
            <a:ext cx="868680" cy="1281240"/>
          </a:xfrm>
          <a:prstGeom prst="line">
            <a:avLst/>
          </a:prstGeom>
          <a:ln w="57240">
            <a:solidFill>
              <a:srgbClr val="eb33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ooter Placeholder 1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  <a:ea typeface="Arial"/>
              </a:rPr>
              <a:t>© BAAF, Chrudim, říjen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Nedostatečné citové po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kud se dětem v rodinách nedostalo „dostatečně dobré“ péče nebo byly zanedbávány či zneužívány, prožívají pocity úzkosti a jejich zdravý vývoj je ohrož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to se u nich vytváří „nedostatečné“ citové pouto k rodičů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vykají si na praxi, ve které žijí, takže vědí, že od lidí, které o ně mají pečovat, není radno nic moc dobrého čekat, zvykají si na postavení zanedbávaných, jejich sebeúcta a vztahy k okolí obecně trpí – a takto „vybaveni“ přicházejí do pěstounské rodin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Odloučení a ztrát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loučení u emočně jistých i nejistých dětí vyvolává úzkostné stavy kvůli obavá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 ztráty vlastní rodi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 ztráty přátel v ústavní péči, které mohou považovat za „rodinu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 nové pěstounské rodin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á chápou jen velice málo, o čem je normální rodinný ž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ěkteré děti budou naopak v novém, bezpečném prostředí projevovat spokojenost a úlev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3086280" cy="919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844640"/>
            <a:ext cx="8137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ředstavení s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lik lidí žije ve Vaší domácnost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co se v pěstounství nejvíce těší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Čeho se v pěstounství nejvíce obává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 nejraději děláte ve svém volném č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OBĚ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vičení – hrací automa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 skupiny po 5, 1 po 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Arial"/>
              </a:rPr>
              <a:t>© British Association for Adoption and Fostering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0000"/>
                </a:solidFill>
                <a:latin typeface="Arial"/>
              </a:rPr>
              <a:t>Druhy vaz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Jistá vazba navozující pocit bezpeč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č, který reaguje, uvolněné dít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Nejistá vazba - úzkostná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důsledný a nespolehlivý rodič, dožadující se dítě, které na rodiči lp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Nejistá vazba - vyhýbavá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mítající rodič, nepřátelsky se chovající/odtažité/příliš samostatné dít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Dezorganizovaná vazb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č vzbuzující strach, traumatizované a příliš ostražité dít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  <a:ea typeface="Arial"/>
              </a:rPr>
              <a:t>© BAAF, Chrudim, říjen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2"/>
          <p:cNvSpPr/>
          <p:nvPr/>
        </p:nvSpPr>
        <p:spPr>
          <a:xfrm>
            <a:off x="380880" y="6581880"/>
            <a:ext cx="3429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618a"/>
                </a:solidFill>
                <a:latin typeface="Arial"/>
                <a:ea typeface="Arial"/>
              </a:rPr>
              <a:t>© British Association for Adoption &amp; Fostering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de22d1"/>
                </a:solidFill>
                <a:latin typeface="Times New Roman"/>
              </a:rPr>
              <a:t>Eliška</a:t>
            </a:r>
            <a:r>
              <a:rPr b="0" lang="en-GB" sz="3800" spc="-1" strike="noStrike">
                <a:solidFill>
                  <a:srgbClr val="de22d1"/>
                </a:solidFill>
                <a:latin typeface="Times New Roman"/>
              </a:rPr>
              <a:t> – </a:t>
            </a: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strategií dítěte je ustavičně aktivovat chování vedoucí k tvorbě vazby</a:t>
            </a:r>
            <a:br>
              <a:rPr sz="4000"/>
            </a:br>
            <a:r>
              <a:rPr b="0" lang="cs-CZ" sz="4000" spc="-1" strike="noStrike">
                <a:solidFill>
                  <a:srgbClr val="de22d1"/>
                </a:solidFill>
                <a:latin typeface="Times New Roman"/>
              </a:rPr>
              <a:t>Rozporuplná/úzkostná vazb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523880" y="2819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itliv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1523880" y="3505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důsledn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523880" y="41911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polehliv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324480" y="2357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aha zavděčit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6324480" y="29289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žadování se pozor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6324480" y="3886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ňuk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324480" y="44956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pění na pečující osob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990720" y="2611440"/>
            <a:ext cx="304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Rodi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379584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12" descr="MPj03960780000[1]"/>
          <p:cNvPicPr/>
          <p:nvPr/>
        </p:nvPicPr>
        <p:blipFill>
          <a:blip r:embed="rId1"/>
          <a:srcRect l="23159" t="0" r="0" b="0"/>
          <a:stretch/>
        </p:blipFill>
        <p:spPr>
          <a:xfrm>
            <a:off x="3733920" y="2076480"/>
            <a:ext cx="1931760" cy="3352680"/>
          </a:xfrm>
          <a:prstGeom prst="rect">
            <a:avLst/>
          </a:prstGeom>
          <a:ln w="0">
            <a:noFill/>
          </a:ln>
        </p:spPr>
      </p:pic>
      <p:sp>
        <p:nvSpPr>
          <p:cNvPr id="253" name="Footer Placeholder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  <a:ea typeface="Arial"/>
              </a:rPr>
              <a:t>© BAAF, Chrudim, říjen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2"/>
          <p:cNvSpPr/>
          <p:nvPr/>
        </p:nvSpPr>
        <p:spPr>
          <a:xfrm>
            <a:off x="380880" y="6581880"/>
            <a:ext cx="3429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618a"/>
                </a:solidFill>
                <a:latin typeface="Arial"/>
                <a:ea typeface="Arial"/>
              </a:rPr>
              <a:t>© British Association for Adoption &amp; Fostering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16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de22d1"/>
                </a:solidFill>
                <a:latin typeface="Times New Roman"/>
              </a:rPr>
              <a:t>Miloš</a:t>
            </a:r>
            <a:r>
              <a:rPr b="0" lang="en-GB" sz="3800" spc="-1" strike="noStrike">
                <a:solidFill>
                  <a:srgbClr val="de22d1"/>
                </a:solidFill>
                <a:latin typeface="Times New Roman"/>
              </a:rPr>
              <a:t> – </a:t>
            </a: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strategií dítěte, jak se pečující osobě přiblížit, je minimalizovat své pocity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Vyhýbavá vazb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523880" y="2743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nedbáv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523880" y="3505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mít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523880" y="41911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eag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6324480" y="22147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řátelství/ agresiv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6324480" y="314316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ostat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6324480" y="374184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ržování si odstu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6324480" y="46864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tažit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838080" y="2540160"/>
            <a:ext cx="30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Rodi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335772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11" descr="MPj03960090000[1]"/>
          <p:cNvPicPr/>
          <p:nvPr/>
        </p:nvPicPr>
        <p:blipFill>
          <a:blip r:embed="rId1"/>
          <a:stretch/>
        </p:blipFill>
        <p:spPr>
          <a:xfrm>
            <a:off x="3203640" y="2060640"/>
            <a:ext cx="3168720" cy="3240000"/>
          </a:xfrm>
          <a:prstGeom prst="rect">
            <a:avLst/>
          </a:prstGeom>
          <a:ln w="0">
            <a:noFill/>
          </a:ln>
        </p:spPr>
      </p:pic>
      <p:sp>
        <p:nvSpPr>
          <p:cNvPr id="266" name="Footer Placeholder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  <a:ea typeface="Arial"/>
              </a:rPr>
              <a:t>© BAAF, Chrudim, říjen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2"/>
          <p:cNvSpPr/>
          <p:nvPr/>
        </p:nvSpPr>
        <p:spPr>
          <a:xfrm>
            <a:off x="380880" y="6581880"/>
            <a:ext cx="3429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618a"/>
                </a:solidFill>
                <a:latin typeface="Arial"/>
                <a:ea typeface="Arial"/>
              </a:rPr>
              <a:t>© British Association for Adoption &amp; Fostering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78000"/>
            <a:ext cx="8229600" cy="25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de22d1"/>
                </a:solidFill>
                <a:latin typeface="Times New Roman"/>
              </a:rPr>
              <a:t>Jiří</a:t>
            </a:r>
            <a:r>
              <a:rPr b="0" lang="en-GB" sz="3800" spc="-1" strike="noStrike">
                <a:solidFill>
                  <a:srgbClr val="de22d1"/>
                </a:solidFill>
                <a:latin typeface="Times New Roman"/>
              </a:rPr>
              <a:t> –  </a:t>
            </a:r>
            <a:r>
              <a:rPr b="0" lang="cs-CZ" sz="3800" spc="-1" strike="noStrike">
                <a:solidFill>
                  <a:srgbClr val="de22d1"/>
                </a:solidFill>
                <a:latin typeface="Times New Roman"/>
              </a:rPr>
              <a:t>strategií je získat kontrolu </a:t>
            </a:r>
            <a:r>
              <a:rPr b="0" lang="en-GB" sz="3800" spc="-1" strike="noStrike">
                <a:solidFill>
                  <a:srgbClr val="de22d1"/>
                </a:solidFill>
                <a:latin typeface="Times New Roman"/>
              </a:rPr>
              <a:t>– </a:t>
            </a:r>
            <a:r>
              <a:rPr b="0" lang="cs-CZ" sz="3800" spc="-1" strike="noStrike">
                <a:solidFill>
                  <a:srgbClr val="de22d1"/>
                </a:solidFill>
                <a:latin typeface="Times New Roman"/>
              </a:rPr>
              <a:t>vystrašený nebo strach vzbuzující</a:t>
            </a:r>
            <a:br>
              <a:rPr sz="3800"/>
            </a:br>
            <a:r>
              <a:rPr b="0" lang="cs-CZ" sz="4000" spc="-1" strike="noStrike">
                <a:solidFill>
                  <a:srgbClr val="de22d1"/>
                </a:solidFill>
                <a:latin typeface="Times New Roman"/>
              </a:rPr>
              <a:t>Dezorganizovaná vazb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971640" y="24922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zbuzující str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1116000" y="3213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řátelsk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6110280" y="1989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ílišná ostražit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6143760" y="257184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oz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6130800" y="4143240"/>
            <a:ext cx="294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atní mohou být nepřátelští/ agresiv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684360" y="2682720"/>
            <a:ext cx="304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Rodi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40056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1125000" y="39337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epředvídateln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icture 12" descr="MPj03168440000[1]"/>
          <p:cNvPicPr/>
          <p:nvPr/>
        </p:nvPicPr>
        <p:blipFill>
          <a:blip r:embed="rId1"/>
          <a:stretch/>
        </p:blipFill>
        <p:spPr>
          <a:xfrm>
            <a:off x="3419640" y="2276640"/>
            <a:ext cx="2428560" cy="36576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3"/>
          <p:cNvSpPr/>
          <p:nvPr/>
        </p:nvSpPr>
        <p:spPr>
          <a:xfrm>
            <a:off x="6156360" y="314316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ocity jsou velmi nebezpeč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6121440" y="521496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ředstíraná náklonnost nebo posluš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1116000" y="4724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raumatizují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ooter Placeholder 1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  <a:ea typeface="Arial"/>
              </a:rPr>
              <a:t>© BAAF, Chrudim, říjen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Příchod dítěte s narušeným citovým pou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do nové rodi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ti, které ve vlastní rodině neměly dostatečné citové pouto, se projevova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tlačováním vlastních pocitů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ustálým vyžadováním pozornosti rodičů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sy své rodiče ovlád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é tyto vzorce chování si děti přinášejí s sebou do pěstounských rod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3086280" cy="9190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660680"/>
            <a:ext cx="813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Videoukáz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Nejistota dítěte v nové rodině po přechodu z úst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 filmu (Ne)chcene deti (S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:07,01 </a:t>
            </a:r>
            <a:r>
              <a:rPr b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0:08,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Cvičení (4 skupiny po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stavte si, že máte přijmout pětileté dítě, které rodiče zanedbávali, takže od věku jednoho roku žilo v ústavu a nyní se stěhuje do pěstounské péč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ým způsobem to mohlo ovlivnit vývoj dítě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Jak se asi dítě cítí, jak se projevuje, co potřebuj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řípadové stu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Jakub, Marc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4 skupiny po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edujeme 4 rozmě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s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ov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s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ůsled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myslet se nad možnými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říčin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zmyslet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ak dá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3086280" cy="919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1413000"/>
            <a:ext cx="871524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9,00-10,00 Co pěstounství obnáš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cíle přípravy, představení se, program, pravidla, dohoda o spolupráci, videoukázky a cvičení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0,00-10,15 přestá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0,15 – 12,00 Co pěstounství obnáš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co a proč pěstouni dělají, případové studie, fil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2,00-13,15 obě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3,15 – 14,45 Identita a šance v život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cíle 2. části, cvičení, identita, videoukázk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4,45 -  15,00 přestá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5,00 – 16,00 Identita a šance v životě, závěr 1. 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předsudky, diskriminace, rovné šance v životě, videoukázk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o mohou děti očekávat od dospělých, přicházejí-li do pěstounské péč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3086280" cy="9190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5280" y="1660680"/>
            <a:ext cx="813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Videoukáz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Začátky v nové rodin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 filmu (Ne)chcené deti (Chrobákovci a Slížikovc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:01,04 </a:t>
            </a:r>
            <a:r>
              <a:rPr b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0:01,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Vytváření prostředí bezpečí a jisto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utečnost, že pěstou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 k dispozi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pomáhá dětem začít důvěřov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tlivý příst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pomáhá dětem zvládat své pocity a chování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ijet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pomáhá dětem budovat si sebeúct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oluprá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pomáhá dětem uvědomit si, že jsou šikovné a dovedou spolupracova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ýt členem rodi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pomáhá dětem vnímat, že do rodiny patří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8360" y="1484280"/>
            <a:ext cx="8153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Vytváření prostředí bezpečí a jisto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SECURE BASE STAR"/>
          <p:cNvPicPr/>
          <p:nvPr/>
        </p:nvPicPr>
        <p:blipFill>
          <a:blip r:embed="rId2"/>
          <a:stretch/>
        </p:blipFill>
        <p:spPr>
          <a:xfrm>
            <a:off x="611280" y="2276640"/>
            <a:ext cx="764532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vič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ěti, které obtížně budují důvěru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4 skupiny po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m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lé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it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myslet se nad příběhem dítě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lnit 3 úkoly a zapsat nápady a myšlenky na papí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ekapitulace 4. čá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605600"/>
            <a:ext cx="81532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8360" y="1484280"/>
            <a:ext cx="8153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hrnutí dvoudenní skupinové přípr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 mě nejvíc překvapil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 jsem si potvrdil/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 nového jsem se dozvěděl/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omácí úkoly z Pracovní knih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ít si kapitoly 1, 2 a 4, sdílet nejasnosti s pracovníkem, který provádí Vaše hodnoc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 algn="ctr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émata, kterými se budete zabývat dá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olupráce s ostatní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zpečná péč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indent="-457200">
              <a:lnSpc>
                <a:spcPct val="100000"/>
              </a:lnSpc>
              <a:tabLst>
                <a:tab algn="l" pos="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chody z péče do péč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51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64216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cs-CZ" sz="2200" spc="-1" strike="noStrike">
                <a:solidFill>
                  <a:srgbClr val="cc0000"/>
                </a:solidFill>
                <a:latin typeface="Arial"/>
              </a:rPr>
              <a:t>www.amalthea.pardubice.cz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851280" y="333360"/>
            <a:ext cx="5029200" cy="14968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-1981080" y="6032520"/>
            <a:ext cx="10744200" cy="6732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755640" y="404640"/>
            <a:ext cx="156204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3086280" cy="919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268280"/>
            <a:ext cx="84978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9,00-10,00 Porozumění dětem v pěstounské péč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kolotoč, cíle 4. části, vývoj dítě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0,00-10,15 přestá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0,15 – 12,00 Porozumění dětem v pěstounské péč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co mě vytáčí, citové pou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2,00-13,15 obě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3,15 – 14,45 Porozumění dětem v pěstounské péč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hrací automat, druhy vazeb, projevy a chování dětí po příchodu do rodin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4,45 – 15,00 přestá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5,00 – 15,30 Porozumění dětem v pěstounské péč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vytváření bezpečí a jistoty pro dítě, případové studie, videoukázk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5,30 – 16,00 Zpětná vazba, ukončení, domácí úko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3086280" cy="919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557360"/>
            <a:ext cx="81374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ZÁKLADNÍ PRAVID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ůvěr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spektujme naše odliš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tevřenost 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přím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rgumentujme s názory, nikoli s lid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aslouchejme jeden druhé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áme právo říct 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ktivní úč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bil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í telefony vypnu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ozsah povinné úča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Web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3086280" cy="919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35120" y="208116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1197000"/>
            <a:ext cx="8569440" cy="51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Dohoda o spoluprá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ajování a ukončování bloků bude zodpovědností náš všech, takže všichni budou chodit včas a nebudou přetahovat přestáv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ždy mluví jenom jeden člově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dé mohou s názory druhých nesouhlasit, ale měli by to dávat najevo způsobem, který oponenty nesnižuje jako lid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hlasíme, aby byly názory členů skupiny vyjádřené během kurzu použity při vyhodnocení, ale dále aby zůstaly pouze mezi členy skupin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4:02:09Z</dcterms:created>
  <dc:creator>Lukáš Pavlík</dc:creator>
  <dc:description/>
  <dc:language>en-US</dc:language>
  <cp:lastModifiedBy>cerna</cp:lastModifiedBy>
  <dcterms:modified xsi:type="dcterms:W3CDTF">2011-05-05T17:20:04Z</dcterms:modified>
  <cp:revision>166</cp:revision>
  <dc:subject/>
  <dc:title>Posláním o.s. Amalthea je podpora rodiny jako jedinečného prostředí pro naplňování potřeb dítěte prostřednictvím poskytování sociálních služeb a dalších odborných a společenských aktivit. </dc:title>
</cp:coreProperties>
</file>